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DD45-93D9-48F8-9A66-17472EC4E4FA}"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62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5444-B8F9-45B9-B31E-57E5CD84FE00}"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62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670E-6AFD-45A9-8F5C-DFA9BEA937C0}" type="slidenum">
              <a:rPr b="0" lang="fa-I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3A6C2-7D72-45D3-8DB8-4403DDE44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E556-7A7A-454B-8A63-3018F0D9A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D6CF8-4751-4532-A58C-CCA3A061A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126735-1A50-4F93-99D9-9992AE4FDA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E19A5F-218F-42F5-A11D-FCDA9820B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E06EE6-9117-4F2E-AE8A-F5419B675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F482E6-9F0E-491A-90F2-5D53879C3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968E7-E497-4785-B5E3-704E60AF3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CB34FF-D74D-462F-AE8E-250880AAC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A3FA3D-FBA7-47D4-9CEC-F2DAC37FBE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553AAF-E742-44ED-9F4F-B80B13C131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C964A3-E192-40EC-A04E-27D1A27415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AAC87-7DB5-4750-AE2C-A484150ED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370BB6-20D4-4B12-BBE6-EED6182B82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CE3D1F-0584-439F-885B-181487EFF9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C745A-3732-4FB0-8510-45E0F99107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D6E586-E7FC-4B45-8FAA-4B40345756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64EA9F-0028-48CD-B9E9-D5CB955D5A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02D5B1-01B1-4B0E-A73D-AE584D6B1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89813D-3CA3-430A-8662-8E5867860D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9F48C6-E036-4944-8459-9B3454E35E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EEEA96-75D7-4FE2-BF0B-67E7BCBEE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1AAE8E-6B87-4ADA-AC5F-0E7DA18D27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77FBC-FCFF-4E2B-84EF-3C91A491F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D98492-CC68-4F68-B68C-0D2C0CF52E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5B4C1E-CB5B-4D5D-BFA3-2F74394F13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44FC6E-C9E9-4037-9985-927B64AA30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F04595-9325-471E-9EFF-64859B615D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2C66D9-BDD7-457F-A976-8922D30951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BF0F59-4288-4CA1-AFD0-F08157EFE1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3E3DB3-A7D1-4776-B301-038B9A94BC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2019D7-F05C-4511-9D13-1192A07479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EE01A3-5B5C-4D9D-9F14-B8D5BD7D52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B20B6F-634E-4800-80E6-1C1F3196EC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D974A-024D-4E7E-907D-A38704220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EB23C8-56D0-400B-86B1-B2557AE29F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5B2506-B714-4B1D-8A4B-A6BC55F661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8EE31A-090D-482F-900D-365EAABB0E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44A211-6CB9-44EA-84BF-02175E77C6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9CD2C3-368F-4750-8581-45959F9291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0504C5-57DC-49DF-896E-67B686F73B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2E10B7-019B-4639-B211-1BD14322C6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E48AD5-8091-4499-8484-1E69B66935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C979D-9CBB-4507-B836-B0FB029B1F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CFB5CE-EE5E-438E-A6EB-DFB5771214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4CEDA-6D0E-49CD-8797-0688A367C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9D7AC2-4538-4469-9116-5F6A9A24FF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8B7739-E554-4BDA-A944-4414D88584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C81761-0546-4B90-9CDD-CFF5851776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8DCAFA-18CE-4433-B099-19633DFA3DE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9FEC41-5525-4141-9548-825BDDA495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31A93-42F4-4516-A255-1B7A54FE1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BB951-30C8-4F65-804C-4E55E1999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0C657-444C-4C12-8A38-4CB49C429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1C447-C1E7-4F13-8F8B-B77C0EA9C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DB516-A32C-4188-836F-BB89FEF70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BACC-2A7B-43DA-9E24-D6CB7D76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F7B24-AA13-46A8-AB09-00689E90C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44933-1CD9-4C0A-9563-3F411CA64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3BEA0-1D47-43F1-AEFE-04CE7378A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1D0FD-D450-4503-9703-D294C3BB0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06D93-7E68-4557-9ADA-A0BE896B3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826C26-0047-4408-8377-9C6C7BD23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B19F6-83BF-4738-BD23-EFC95F260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C1C47-B36C-469E-B689-26C084C12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C50BC-821F-4C0D-9C2E-4B2375057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7930C-38B8-4B9D-95B8-32639D77B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091D8-19A1-45BD-B389-3C898597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FE9AF-1C9A-4C63-8A46-11FC06E20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828A5-ABB6-4BAD-9DBB-0471C96420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4821F-C12C-4B06-8523-A8B9EE368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5FE0B-DDC7-42AB-8DBF-59DD8368C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56EFF-228B-43EB-93A6-D98AFFD3C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79A5F-79CF-41BA-911E-7CEFA218A8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7EEFF-1B75-468A-AAB9-E1DD25BD61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22FE31-73E7-49E1-A939-E7CBAAD8F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2AC19-B7E6-4321-95B1-D11F85FE85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97202-E0DA-46BA-A7F1-9CE782E49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7C26-9680-4079-9AB7-CB9EDF54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375161-A83D-48CB-9BCB-F367D5CC8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125E6-14F0-467B-BDD7-7981BC468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FBB87-9C38-470E-9E21-A92BD5E4B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F890C-6365-4502-B212-308179066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689C2-5357-40F2-9A28-3B8314619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50EDF-43A5-4D7C-A272-09D7C0135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67E94-C286-4F68-8F47-E74716C97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5B2372-D9D1-41D3-BB4E-D53B177577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7B442-C59F-428D-B216-8F999FA464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15B47-1F36-4236-82DB-A03E8AF25F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B0CE-3F06-46D6-BB54-F6EDA7DE5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78202-D830-410D-B8A5-F74D7C0D42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194639-7CAD-47E2-9EEF-3D245B0143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1D984-1C0B-4720-B0ED-DF7252971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903A0-C614-4431-8D19-8F58C7A62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AF0087-1001-4F59-A970-912924C57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4AA40-AFCC-4D9C-8FED-49953D0C0C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078B2-63F9-4AE6-A2B1-CECD36756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29045-81BB-46D4-9CCB-9190BEA88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8DF11-55B0-4ECD-878D-24D2CFB19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62A393-AF57-4AC0-BBB2-C948C80D2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7336-B864-4FEC-9117-B9A20AA15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0C4EF2-F7DA-4880-A2F6-E18D2F1BB6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1EE08-D868-42D9-B7F7-85EF491661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78B42-1FDD-4747-94D0-8E7AE4534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4F794E-631B-48CC-8CCC-67D84DCC3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B0CF29-46C9-4A90-AD86-29FD799613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FDA87-C284-460A-8EB6-471DDDFBC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27FDE8-DBF1-4CBF-9B44-3762C85F7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FD14A-BDE6-4D09-B8BE-930962402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547C7-9A14-47AF-A402-3A5C56E76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CE1DFF-0107-438B-9F0C-B91233E81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80D9F-BC60-414A-AFF8-F507A79F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ECF74-FF9D-4F10-88E8-E972125DE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D778A-A812-4316-B832-564E1A8771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3A41DC-F470-4788-A288-42660F1227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C84652-3501-4BA4-A030-AEA0D244B0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13DE0D-43F4-427B-9411-AB179F3E1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B4598-E0CA-4EC4-9270-E71AC3270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1A46B3-D185-4177-ACE8-BCC6C027AC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2DBFD-A7CA-479D-A0CA-D8ABB0DA1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623F29-605B-4B3A-8CBC-B5B4CBCE2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57765-972F-49BF-952C-6535DCAD5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6A0D-FF80-4B41-8EC5-189A0A47D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BC77C-BB5C-4FE0-B2D7-64C57E31DB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8866C2-463F-4E72-9272-027F92FBD6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B6A347-E4F9-4214-A770-DF019CD96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235D69-928A-43C1-8905-975FD64D51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8E764D-3DDA-47F9-9177-FB3CE9054C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6988BF-A833-4DEB-9676-26618AC773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123C91-1561-46AA-9055-103DCE01FA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374BA-736F-4755-BB15-E85832F47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D5602E-949C-4D8C-B4E2-868010CA1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72170E-EF4E-44EF-AE98-107F767C7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1CF3-2D28-4059-B2F6-9A3722FE3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DAE57B-D4F2-4FD6-981D-D01C200EB8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B49FCD-EFDA-4283-BB6D-1A10136C4D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FA1A68-918C-400D-BC03-8CA282A7B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317A39-ADFF-4F35-878A-AC5C8C27E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1F2E9-1610-4D37-892B-D22570F95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7740BA-2EDA-432A-80F7-C16727A7B5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36879-E00F-4F8C-BB54-4062579FC9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3DC03C-ADEE-4A0C-AFD6-F31FD6874F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C518A-BB17-4001-A071-55E2E21FC8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DBC7DF-16ED-42CD-8F1B-D6C05D385F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A9E9-C10D-4F32-9E8C-6591710AC14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52320" y="974880"/>
            <a:ext cx="4797720" cy="4797360"/>
            <a:chOff x="652320" y="974880"/>
            <a:chExt cx="4797720" cy="4797360"/>
          </a:xfrm>
        </p:grpSpPr>
        <p:pic>
          <p:nvPicPr>
            <p:cNvPr id="417" name="Rectangle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EA97-FDC1-4250-9B75-03F71D5DE5E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nut 10"/>
          <p:cNvGrpSpPr/>
          <p:nvPr/>
        </p:nvGrpSpPr>
        <p:grpSpPr>
          <a:xfrm>
            <a:off x="171360" y="1042920"/>
            <a:ext cx="1157400" cy="1150920"/>
            <a:chOff x="171360" y="1042920"/>
            <a:chExt cx="1157400" cy="1150920"/>
          </a:xfrm>
        </p:grpSpPr>
        <p:pic>
          <p:nvPicPr>
            <p:cNvPr id="465" name="Donut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A3D6-A520-4BDB-AEE7-79022333955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Donut 10"/>
          <p:cNvGrpSpPr/>
          <p:nvPr/>
        </p:nvGrpSpPr>
        <p:grpSpPr>
          <a:xfrm>
            <a:off x="171360" y="1042920"/>
            <a:ext cx="1157400" cy="1150920"/>
            <a:chOff x="171360" y="1042920"/>
            <a:chExt cx="1157400" cy="1150920"/>
          </a:xfrm>
        </p:grpSpPr>
        <p:pic>
          <p:nvPicPr>
            <p:cNvPr id="513" name="Donut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716D-7E43-4C01-AECC-350AFE34084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4329-480B-4820-9B65-61674B4F8C6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Donut 10"/>
          <p:cNvGrpSpPr/>
          <p:nvPr/>
        </p:nvGrpSpPr>
        <p:grpSpPr>
          <a:xfrm>
            <a:off x="171360" y="1042920"/>
            <a:ext cx="1157400" cy="1150920"/>
            <a:chOff x="171360" y="1042920"/>
            <a:chExt cx="1157400" cy="1150920"/>
          </a:xfrm>
        </p:grpSpPr>
        <p:pic>
          <p:nvPicPr>
            <p:cNvPr id="103" name="Donut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4FDD-53E1-44FB-A4BF-774DFA630A1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70080" y="2816280"/>
            <a:ext cx="219240" cy="212760"/>
            <a:chOff x="2170080" y="2816280"/>
            <a:chExt cx="219240" cy="212760"/>
          </a:xfrm>
        </p:grpSpPr>
        <p:pic>
          <p:nvPicPr>
            <p:cNvPr id="151" name="Oval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2091-388C-4DFE-9FB1-F93C279B482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Donut 10"/>
          <p:cNvGrpSpPr/>
          <p:nvPr/>
        </p:nvGrpSpPr>
        <p:grpSpPr>
          <a:xfrm>
            <a:off x="171360" y="1042920"/>
            <a:ext cx="1157400" cy="1150920"/>
            <a:chOff x="171360" y="1042920"/>
            <a:chExt cx="1157400" cy="1150920"/>
          </a:xfrm>
        </p:grpSpPr>
        <p:pic>
          <p:nvPicPr>
            <p:cNvPr id="198" name="Donut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98B2-0684-4914-BF56-AD5E2FACFB3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654A-22F4-47A7-977F-556B7925D1C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Donut 10"/>
          <p:cNvGrpSpPr/>
          <p:nvPr/>
        </p:nvGrpSpPr>
        <p:grpSpPr>
          <a:xfrm>
            <a:off x="171360" y="1042920"/>
            <a:ext cx="1157400" cy="1150920"/>
            <a:chOff x="171360" y="1042920"/>
            <a:chExt cx="1157400" cy="1150920"/>
          </a:xfrm>
        </p:grpSpPr>
        <p:pic>
          <p:nvPicPr>
            <p:cNvPr id="287" name="Donut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6308-192A-484A-BFD1-A5C0BEE6BC1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41BF-85D1-4843-AD8B-F9BFA74C672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ED87-0F68-4949-9B5C-BBBCD4FC4B8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90360" y="1143000"/>
            <a:ext cx="8001000" cy="4648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درس : تحلیل محتوای کتاب درسی </a:t>
            </a:r>
            <a:r>
              <a:rPr b="0" lang="fa-IR" sz="4300" spc="-1" strike="noStrike">
                <a:solidFill>
                  <a:srgbClr val="572314"/>
                </a:solidFill>
                <a:latin typeface="Gill Sans MT"/>
                <a:ea typeface="2  Titr"/>
              </a:rPr>
              <a:t>2</a:t>
            </a:r>
            <a:r>
              <a:rPr b="0" lang="fa-IR" sz="4300" spc="-1" strike="noStrike">
                <a:solidFill>
                  <a:srgbClr val="572314"/>
                </a:solidFill>
                <a:latin typeface="Gill Sans MT"/>
                <a:ea typeface="2  Titr"/>
              </a:rPr>
              <a:t> </a:t>
            </a:r>
            <a:br>
              <a:rPr sz="4300"/>
            </a:br>
            <a:br>
              <a:rPr sz="4300"/>
            </a:br>
            <a:r>
              <a:rPr b="0" lang="fa-IR" sz="4300" spc="-1" strike="noStrike">
                <a:solidFill>
                  <a:srgbClr val="572314"/>
                </a:solidFill>
                <a:latin typeface="Gill Sans MT"/>
                <a:cs typeface="2  Titr"/>
              </a:rPr>
              <a:t>مدرس : محمد میرزاده ومعصومه داوری</a:t>
            </a: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سوال وتمرین</a:t>
            </a:r>
            <a:endParaRPr b="0" lang="en-US" sz="4300" spc="-1" strike="noStrike">
              <a:solidFill>
                <a:srgbClr val="572314"/>
              </a:solidFill>
              <a:latin typeface="Gill Sans MT"/>
            </a:endParaRPr>
          </a:p>
        </p:txBody>
      </p:sp>
      <p:sp>
        <p:nvSpPr>
          <p:cNvPr id="581" name=""/>
          <p:cNvSpPr txBox="1"/>
          <p:nvPr/>
        </p:nvSpPr>
        <p:spPr>
          <a:xfrm>
            <a:off x="1066320" y="1447560"/>
            <a:ext cx="786780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Gill Sans MT"/>
                <a:cs typeface="2  Traffic"/>
              </a:rPr>
              <a:t>آیا شما می توانید توالی یک کتاب درسی را تغییر دهید؟</a:t>
            </a:r>
            <a:endParaRPr b="0" lang="en-US" sz="4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Gill Sans MT"/>
                <a:cs typeface="2  Traffic"/>
              </a:rPr>
              <a:t>اگر موافقید دلایل را بیان کنید</a:t>
            </a:r>
            <a:endParaRPr b="0" lang="en-US" sz="40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Gill Sans MT"/>
                <a:cs typeface="2  Traffic"/>
              </a:rPr>
              <a:t>اگر مخالفید دلایل را بیان کنید</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ساختار و ویژگی های کتاب های درسی </a:t>
            </a:r>
            <a:endParaRPr b="0" lang="en-US" sz="4300" spc="-1" strike="noStrike">
              <a:solidFill>
                <a:srgbClr val="572314"/>
              </a:solidFill>
              <a:latin typeface="Gill Sans MT"/>
            </a:endParaRPr>
          </a:p>
        </p:txBody>
      </p:sp>
      <p:sp>
        <p:nvSpPr>
          <p:cNvPr id="583" name=""/>
          <p:cNvSpPr txBox="1"/>
          <p:nvPr/>
        </p:nvSpPr>
        <p:spPr>
          <a:xfrm>
            <a:off x="838080" y="1447560"/>
            <a:ext cx="8096400" cy="4800600"/>
          </a:xfrm>
          <a:prstGeom prst="rect">
            <a:avLst/>
          </a:prstGeom>
          <a:noFill/>
          <a:ln w="0">
            <a:noFill/>
          </a:ln>
        </p:spPr>
        <p:txBody>
          <a:bodyPr anchor="t">
            <a:normAutofit fontScale="93000"/>
          </a:bodyPr>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طبق دستورالعمل دفتر برنامه ریزی وتالیف کتب درسی وزرات آموزش وپرورش از سه بخش تشکیل شده است</a:t>
            </a:r>
            <a:endParaRPr b="0" lang="en-US" sz="28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ea typeface="2  Traffic"/>
              </a:rPr>
              <a:t>1</a:t>
            </a:r>
            <a:r>
              <a:rPr b="0" lang="fa-IR" sz="2800" spc="-1" strike="noStrike">
                <a:solidFill>
                  <a:srgbClr val="ff0000"/>
                </a:solidFill>
                <a:latin typeface="Gill Sans MT"/>
                <a:ea typeface="2  Traffic"/>
              </a:rPr>
              <a:t>-قسمت مقدماتی</a:t>
            </a:r>
            <a:endParaRPr b="0" lang="en-US" sz="28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شامل  قسمت است </a:t>
            </a:r>
            <a:r>
              <a:rPr b="0" lang="fa-IR" sz="2800" spc="-1" strike="noStrike">
                <a:solidFill>
                  <a:srgbClr val="000000"/>
                </a:solidFill>
                <a:latin typeface="Gill Sans MT"/>
                <a:ea typeface="2  Traffic"/>
              </a:rPr>
              <a:t>1</a:t>
            </a:r>
            <a:r>
              <a:rPr b="0" lang="fa-IR" sz="2800" spc="-1" strike="noStrike">
                <a:solidFill>
                  <a:srgbClr val="000000"/>
                </a:solidFill>
                <a:latin typeface="Gill Sans MT"/>
                <a:ea typeface="2  Traffic"/>
              </a:rPr>
              <a:t>-پیش گفتار (مقدمه)</a:t>
            </a:r>
            <a:r>
              <a:rPr b="0" lang="fa-IR" sz="2800" spc="-1" strike="noStrike">
                <a:solidFill>
                  <a:srgbClr val="000000"/>
                </a:solidFill>
                <a:latin typeface="Gill Sans MT"/>
                <a:ea typeface="2  Traffic"/>
              </a:rPr>
              <a:t>2</a:t>
            </a:r>
            <a:r>
              <a:rPr b="0" lang="fa-IR" sz="2800" spc="-1" strike="noStrike">
                <a:solidFill>
                  <a:srgbClr val="000000"/>
                </a:solidFill>
                <a:latin typeface="Gill Sans MT"/>
                <a:ea typeface="2  Traffic"/>
              </a:rPr>
              <a:t>-فهرست عناوین</a:t>
            </a:r>
            <a:endParaRPr b="0" lang="en-US" sz="28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Gill Sans MT"/>
                <a:cs typeface="2  Traffic"/>
              </a:rPr>
              <a:t>در پیش گفتار یا مقدمه کتاب ،اطلاعاتی پیرامون مفاهیم اصلی موضوع درسی و کاربرد آن در زندگی روزمره،روش مطالعه کتاب ،اهداف کلی و ساختار کتاب مورد بحث و بررسی قرار می گیرد</a:t>
            </a:r>
            <a:r>
              <a:rPr b="0" lang="fa-IR" sz="2400" spc="-1" strike="noStrike">
                <a:solidFill>
                  <a:srgbClr val="000000"/>
                </a:solidFill>
                <a:latin typeface="Gill Sans MT"/>
                <a:ea typeface="2  Traffic"/>
              </a:rPr>
              <a:t>.</a:t>
            </a:r>
            <a:endParaRPr b="0" lang="en-US" sz="24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cs typeface="2  Traffic"/>
              </a:rPr>
              <a:t>در فهرست عناوین و موضوعات عنوان دروس و یا فصل ها ست و یا شاید عناوین داخل دورس هم آورده شود مانند آزمایش ها و....</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838080" y="304920"/>
            <a:ext cx="8096400" cy="5943600"/>
          </a:xfrm>
          <a:prstGeom prst="rect">
            <a:avLst/>
          </a:prstGeom>
          <a:noFill/>
          <a:ln w="0">
            <a:noFill/>
          </a:ln>
        </p:spPr>
        <p:txBody>
          <a:bodyPr anchor="t">
            <a:normAutofit fontScale="98000"/>
          </a:bodyPr>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Traffic"/>
              </a:rPr>
              <a:t>2</a:t>
            </a:r>
            <a:r>
              <a:rPr b="0" lang="fa-IR" sz="3200" spc="-1" strike="noStrike">
                <a:solidFill>
                  <a:srgbClr val="000000"/>
                </a:solidFill>
                <a:latin typeface="Gill Sans MT"/>
                <a:ea typeface="2  Traffic"/>
              </a:rPr>
              <a:t>-قسمت میانی</a:t>
            </a:r>
            <a:endParaRPr b="0" lang="en-US" sz="32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منظور یک واحد یادگیری با توجه به ساختار کتاب یک بخش یا یک فصل است.براین اساس یک کتاب از چند بخش و هر بخش از چند فصل و هر فصل از چند درس تشکیل شده است.</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قسمت میانی دارای </a:t>
            </a:r>
            <a:r>
              <a:rPr b="0" lang="fa-IR" sz="3200" spc="-1" strike="noStrike">
                <a:solidFill>
                  <a:srgbClr val="000000"/>
                </a:solidFill>
                <a:latin typeface="Gill Sans MT"/>
                <a:ea typeface="2  Traffic"/>
              </a:rPr>
              <a:t>3</a:t>
            </a:r>
            <a:r>
              <a:rPr b="0" lang="fa-IR" sz="3200" spc="-1" strike="noStrike">
                <a:solidFill>
                  <a:srgbClr val="000000"/>
                </a:solidFill>
                <a:latin typeface="Gill Sans MT"/>
                <a:ea typeface="2  Traffic"/>
              </a:rPr>
              <a:t> بخش است:</a:t>
            </a:r>
            <a:endParaRPr b="0" lang="en-US" sz="32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مقدمه،متن اصلی درس ،قسمت پایانی</a:t>
            </a:r>
            <a:endParaRPr b="0" lang="en-US" sz="32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الف)مقدمه درس</a:t>
            </a:r>
            <a:endParaRPr b="0" lang="en-US" sz="32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cs typeface="2  Traffic"/>
              </a:rPr>
              <a:t>هر واحد یادگیری می تواند دارای یک صفحه یا دو صفحه باشد. مقدمه باید انگیزه ی یادگیری دانش آموزان را افزایش دهد.</a:t>
            </a:r>
            <a:endParaRPr b="0" lang="en-US" sz="24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cs typeface="2  Traffic"/>
              </a:rPr>
              <a:t>می تواند عکس یا چند سوال یا چند مسئله باشد یا بیان ارتباط محتوا یادگیری با مسایل زندگی دانش آموزان باشد.</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274320"/>
            <a:ext cx="8553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572314"/>
                </a:solidFill>
                <a:latin typeface="Gill Sans MT"/>
                <a:cs typeface="2  Titr"/>
              </a:rPr>
              <a:t>چرا اهداف آموزشی در کتاب های درسی باید      نوشته شود؟</a:t>
            </a:r>
            <a:endParaRPr b="0" lang="en-US" sz="3600" spc="-1" strike="noStrike">
              <a:solidFill>
                <a:srgbClr val="572314"/>
              </a:solidFill>
              <a:latin typeface="Gill Sans MT"/>
            </a:endParaRPr>
          </a:p>
        </p:txBody>
      </p:sp>
      <p:sp>
        <p:nvSpPr>
          <p:cNvPr id="586" name=""/>
          <p:cNvSpPr txBox="1"/>
          <p:nvPr/>
        </p:nvSpPr>
        <p:spPr>
          <a:xfrm>
            <a:off x="685440" y="1447920"/>
            <a:ext cx="8248680" cy="54100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اهداف آموزشی </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بیان مقاصدی هستند که برنامه ریزان و مربیان انتظار دارند فراگیران پس از پایان آموزش به آنها دست یابند به همین جهت ذکر اهداف و انتظارات در کتاب های درسی دارای اهمیت می باشد.</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cs typeface="2  Traffic"/>
              </a:rPr>
              <a:t>نکاتی در مورد اهداف:</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ea typeface="2  Traffic"/>
              </a:rPr>
              <a:t>1</a:t>
            </a:r>
            <a:r>
              <a:rPr b="0" lang="fa-IR" sz="2400" spc="-1" strike="noStrike">
                <a:solidFill>
                  <a:srgbClr val="000000"/>
                </a:solidFill>
                <a:latin typeface="Gill Sans MT"/>
                <a:ea typeface="2  Traffic"/>
              </a:rPr>
              <a:t>-بیان </a:t>
            </a:r>
            <a:r>
              <a:rPr b="0" lang="fa-IR" sz="2400" spc="-1" strike="noStrike">
                <a:solidFill>
                  <a:srgbClr val="ff0000"/>
                </a:solidFill>
                <a:latin typeface="Gill Sans MT"/>
                <a:cs typeface="2  Traffic"/>
              </a:rPr>
              <a:t>اهداف کلی </a:t>
            </a:r>
            <a:r>
              <a:rPr b="0" lang="fa-IR" sz="2400" spc="-1" strike="noStrike">
                <a:solidFill>
                  <a:srgbClr val="000000"/>
                </a:solidFill>
                <a:latin typeface="Gill Sans MT"/>
                <a:cs typeface="2  Traffic"/>
              </a:rPr>
              <a:t>کتاب در </a:t>
            </a:r>
            <a:r>
              <a:rPr b="0" lang="fa-IR" sz="2400" spc="-1" strike="noStrike">
                <a:solidFill>
                  <a:srgbClr val="ff0000"/>
                </a:solidFill>
                <a:latin typeface="Gill Sans MT"/>
                <a:cs typeface="2  Traffic"/>
              </a:rPr>
              <a:t>مقدمه اصلی کتاب درسی</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ea typeface="2  Traffic"/>
              </a:rPr>
              <a:t>2</a:t>
            </a:r>
            <a:r>
              <a:rPr b="0" lang="fa-IR" sz="2400" spc="-1" strike="noStrike">
                <a:solidFill>
                  <a:srgbClr val="000000"/>
                </a:solidFill>
                <a:latin typeface="Gill Sans MT"/>
                <a:ea typeface="2  Traffic"/>
              </a:rPr>
              <a:t>-آوردن </a:t>
            </a:r>
            <a:r>
              <a:rPr b="0" lang="fa-IR" sz="2400" spc="-1" strike="noStrike">
                <a:solidFill>
                  <a:srgbClr val="ff0000"/>
                </a:solidFill>
                <a:latin typeface="Gill Sans MT"/>
                <a:cs typeface="2  Traffic"/>
              </a:rPr>
              <a:t>هدف های کلی </a:t>
            </a:r>
            <a:r>
              <a:rPr b="0" lang="fa-IR" sz="2400" spc="-1" strike="noStrike">
                <a:solidFill>
                  <a:srgbClr val="000000"/>
                </a:solidFill>
                <a:latin typeface="Gill Sans MT"/>
                <a:cs typeface="2  Traffic"/>
              </a:rPr>
              <a:t>کتاب در </a:t>
            </a:r>
            <a:r>
              <a:rPr b="0" lang="fa-IR" sz="2400" spc="-1" strike="noStrike">
                <a:solidFill>
                  <a:srgbClr val="ff0000"/>
                </a:solidFill>
                <a:latin typeface="Gill Sans MT"/>
                <a:cs typeface="2  Traffic"/>
              </a:rPr>
              <a:t>مقدمه هر واحد یادگیری</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ill Sans MT"/>
                <a:ea typeface="2  Traffic"/>
              </a:rPr>
              <a:t>3</a:t>
            </a:r>
            <a:r>
              <a:rPr b="0" lang="fa-IR" sz="2400" spc="-1" strike="noStrike">
                <a:solidFill>
                  <a:srgbClr val="000000"/>
                </a:solidFill>
                <a:latin typeface="Gill Sans MT"/>
                <a:ea typeface="2  Traffic"/>
              </a:rPr>
              <a:t>-آوردن </a:t>
            </a:r>
            <a:r>
              <a:rPr b="0" lang="fa-IR" sz="2400" spc="-1" strike="noStrike">
                <a:solidFill>
                  <a:srgbClr val="ff0000"/>
                </a:solidFill>
                <a:latin typeface="Gill Sans MT"/>
                <a:cs typeface="2  Traffic"/>
              </a:rPr>
              <a:t>هدف های جزیی </a:t>
            </a:r>
            <a:r>
              <a:rPr b="0" lang="fa-IR" sz="2400" spc="-1" strike="noStrike">
                <a:solidFill>
                  <a:srgbClr val="000000"/>
                </a:solidFill>
                <a:latin typeface="Gill Sans MT"/>
                <a:cs typeface="2  Traffic"/>
              </a:rPr>
              <a:t>در </a:t>
            </a:r>
            <a:r>
              <a:rPr b="0" lang="fa-IR" sz="2400" spc="-1" strike="noStrike">
                <a:solidFill>
                  <a:srgbClr val="ff0000"/>
                </a:solidFill>
                <a:latin typeface="Gill Sans MT"/>
                <a:cs typeface="2  Traffic"/>
              </a:rPr>
              <a:t>ابتدای هر واحد یادگیری یاهر درس</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Gill Sans MT"/>
                <a:ea typeface="2  Traffic"/>
              </a:rPr>
              <a:t>4</a:t>
            </a:r>
            <a:r>
              <a:rPr b="0" lang="fa-IR" sz="2400" spc="-1" strike="noStrike">
                <a:solidFill>
                  <a:srgbClr val="ff0000"/>
                </a:solidFill>
                <a:latin typeface="Gill Sans MT"/>
                <a:ea typeface="2  Traffic"/>
              </a:rPr>
              <a:t>-میزان صراحت و یا عدم صراحت در بیان انتظارات و هدفها به ویژگی های ادارکی مخاطبان و نوع درس بستگی دارد</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71600" y="0"/>
            <a:ext cx="7499520" cy="99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572314"/>
                </a:solidFill>
                <a:latin typeface="Gill Sans MT"/>
                <a:cs typeface="2  Titr"/>
              </a:rPr>
              <a:t>ب)متن اصلی درس</a:t>
            </a:r>
            <a:endParaRPr b="0" lang="en-US" sz="2800" spc="-1" strike="noStrike">
              <a:solidFill>
                <a:srgbClr val="572314"/>
              </a:solidFill>
              <a:latin typeface="Gill Sans MT"/>
            </a:endParaRPr>
          </a:p>
        </p:txBody>
      </p:sp>
      <p:sp>
        <p:nvSpPr>
          <p:cNvPr id="588" name=""/>
          <p:cNvSpPr txBox="1"/>
          <p:nvPr/>
        </p:nvSpPr>
        <p:spPr>
          <a:xfrm>
            <a:off x="685440" y="762120"/>
            <a:ext cx="8248680" cy="5867280"/>
          </a:xfrm>
          <a:prstGeom prst="rect">
            <a:avLst/>
          </a:prstGeom>
          <a:noFill/>
          <a:ln w="0">
            <a:noFill/>
          </a:ln>
        </p:spPr>
        <p:txBody>
          <a:bodyPr anchor="t">
            <a:normAutofit fontScale="86000"/>
          </a:bodyPr>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محتوای هر درس در این قسمت ارائه می شود.</a:t>
            </a:r>
            <a:endParaRPr b="0" lang="en-US" sz="28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متن نوشتاری،نقاشی،عکس،جدول،نقشه و نمودار </a:t>
            </a:r>
            <a:r>
              <a:rPr b="0" lang="fa-IR" sz="2800" spc="-1" strike="noStrike">
                <a:solidFill>
                  <a:srgbClr val="000000"/>
                </a:solidFill>
                <a:latin typeface="Gill Sans MT"/>
                <a:cs typeface="2  Traffic"/>
              </a:rPr>
              <a:t>رسانه هایی هستند برای ارائه محتوا</a:t>
            </a:r>
            <a:endParaRPr b="0" lang="en-US" sz="28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محتوای کتاب درسی فرصت هایی برای </a:t>
            </a:r>
            <a:r>
              <a:rPr b="0" lang="fa-IR" sz="2800" spc="-1" strike="noStrike">
                <a:solidFill>
                  <a:srgbClr val="ff0000"/>
                </a:solidFill>
                <a:latin typeface="Gill Sans MT"/>
                <a:cs typeface="2  Traffic"/>
              </a:rPr>
              <a:t>یادگیری مفاهیم ، تعمیم ها،نظریه ها و اصول و مهارت هاست </a:t>
            </a:r>
            <a:r>
              <a:rPr b="0" lang="fa-IR" sz="2800" spc="-1" strike="noStrike">
                <a:solidFill>
                  <a:srgbClr val="000000"/>
                </a:solidFill>
                <a:latin typeface="Gill Sans MT"/>
                <a:cs typeface="2  Traffic"/>
              </a:rPr>
              <a:t>همچنین  به تغییر نگرش ها و ایجاد و توسعه ارزش ها کمک می نماید.</a:t>
            </a:r>
            <a:endParaRPr b="0" lang="en-US" sz="28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محتوا شامل چهار طبقه حقایق-مفاهیم روش کار و قوانین است</a:t>
            </a:r>
            <a:endParaRPr b="0" lang="en-US" sz="28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با جدا کردن این چهار عنصر از یک متن نباید مورد دیگری در متن نوشتاری باقی بماند</a:t>
            </a:r>
            <a:endParaRPr b="0" lang="en-US" sz="28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Gill Sans MT"/>
                <a:cs typeface="2  Traffic"/>
              </a:rPr>
              <a:t>حقایق : اطلاعاتی چون اسامی خاص، نماد ها و نشانه های قرار دادی را شامل می شود</a:t>
            </a:r>
            <a:endParaRPr b="0" lang="en-US" sz="20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Gill Sans MT"/>
                <a:cs typeface="2  Traffic"/>
              </a:rPr>
              <a:t>مفاهیم:به مجموعه اشیا و حوداث و پدیده هایی که دارای خصوصیات ویژه ومشترک</a:t>
            </a:r>
            <a:endParaRPr b="0" lang="en-US" sz="20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Gill Sans MT"/>
                <a:cs typeface="2  Traffic"/>
              </a:rPr>
              <a:t>روش کار: مجموعه نظام یافته اعمال و فعالیت هایی است که برای رسیدن به یک هدف </a:t>
            </a:r>
            <a:endParaRPr b="0" lang="en-US" sz="2000" spc="-1" strike="noStrike">
              <a:solidFill>
                <a:srgbClr val="000000"/>
              </a:solidFill>
              <a:latin typeface="Gill Sans MT"/>
            </a:endParaRPr>
          </a:p>
          <a:p>
            <a:pPr marL="313920" indent="-2430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Gill Sans MT"/>
                <a:cs typeface="2  Traffic"/>
              </a:rPr>
              <a:t>اصول: روابط بین پدیده ها که شامل روابط علی و معلولی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680"/>
            <a:ext cx="7499520" cy="79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572314"/>
                </a:solidFill>
                <a:latin typeface="Gill Sans MT"/>
                <a:cs typeface="2  Titr"/>
              </a:rPr>
              <a:t>ج)قسمت انتهایی درس</a:t>
            </a:r>
            <a:endParaRPr b="0" lang="en-US" sz="3200" spc="-1" strike="noStrike">
              <a:solidFill>
                <a:srgbClr val="572314"/>
              </a:solidFill>
              <a:latin typeface="Gill Sans MT"/>
            </a:endParaRPr>
          </a:p>
        </p:txBody>
      </p:sp>
      <p:sp>
        <p:nvSpPr>
          <p:cNvPr id="590" name=""/>
          <p:cNvSpPr txBox="1"/>
          <p:nvPr/>
        </p:nvSpPr>
        <p:spPr>
          <a:xfrm>
            <a:off x="1447920" y="990720"/>
            <a:ext cx="7486560" cy="58672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جمع بندی،نتیجه گیری ،مروری کلی بر نکات مهم و ارائه تعاریف اساسی دروس در قسمت پایانی آورده شود.</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در این بخش محل مناسبی برای ارائه تمرین ها ،خود آزمایی ها پرسش ها و... برای تعمیق یادگیری است</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0000"/>
                </a:solidFill>
                <a:latin typeface="Gill Sans MT"/>
                <a:ea typeface="2  Titr"/>
              </a:rPr>
              <a:t>3</a:t>
            </a:r>
            <a:r>
              <a:rPr b="0" lang="fa-IR" sz="4300" spc="-1" strike="noStrike">
                <a:solidFill>
                  <a:srgbClr val="ff0000"/>
                </a:solidFill>
                <a:latin typeface="Gill Sans MT"/>
                <a:ea typeface="2  Titr"/>
              </a:rPr>
              <a:t>- قسمت پایانی کتاب</a:t>
            </a:r>
            <a:endParaRPr b="0" lang="en-US" sz="4300" spc="-1" strike="noStrike">
              <a:solidFill>
                <a:srgbClr val="572314"/>
              </a:solidFill>
              <a:latin typeface="Gill Sans MT"/>
            </a:endParaRPr>
          </a:p>
        </p:txBody>
      </p:sp>
      <p:sp>
        <p:nvSpPr>
          <p:cNvPr id="592"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قسمت پایانی کتاب درسی تشکیل شده است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پیوست ها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منابع و ماخذ و واژه نامه ها</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نقشه ها و جدولی که در طول سال تحصیلی مورد استفاده دانش آموزان قرار می گیرد.</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کار عملی این فصل</a:t>
            </a:r>
            <a:endParaRPr b="0" lang="en-US" sz="4300" spc="-1" strike="noStrike">
              <a:solidFill>
                <a:srgbClr val="572314"/>
              </a:solidFill>
              <a:latin typeface="Gill Sans MT"/>
            </a:endParaRPr>
          </a:p>
        </p:txBody>
      </p:sp>
      <p:sp>
        <p:nvSpPr>
          <p:cNvPr id="594" name=""/>
          <p:cNvSpPr txBox="1"/>
          <p:nvPr/>
        </p:nvSpPr>
        <p:spPr>
          <a:xfrm>
            <a:off x="1434960" y="1218960"/>
            <a:ext cx="7499520" cy="5638680"/>
          </a:xfrm>
          <a:prstGeom prst="rect">
            <a:avLst/>
          </a:prstGeom>
          <a:noFill/>
          <a:ln w="0">
            <a:noFill/>
          </a:ln>
        </p:spPr>
        <p:txBody>
          <a:bodyPr anchor="t">
            <a:normAutofit fontScale="87000"/>
          </a:bodyPr>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تحلیل کتاب درسی انتخاب شده با توجه به ساختار کتاب درسی باتوجه به منبع </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حل فعالیت صفحه </a:t>
            </a:r>
            <a:r>
              <a:rPr b="0" lang="fa-IR" sz="3200" spc="-1" strike="noStrike">
                <a:solidFill>
                  <a:srgbClr val="000000"/>
                </a:solidFill>
                <a:latin typeface="Gill Sans MT"/>
                <a:ea typeface="2  Traffic"/>
              </a:rPr>
              <a:t>17</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بررسی دیدگاه های به کار گرفته در کتاب درسی</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Traffic"/>
              </a:rPr>
              <a:t>(</a:t>
            </a:r>
            <a:r>
              <a:rPr b="0" lang="fa-IR" sz="3200" spc="-1" strike="noStrike">
                <a:solidFill>
                  <a:srgbClr val="000000"/>
                </a:solidFill>
                <a:latin typeface="Gill Sans MT"/>
                <a:ea typeface="2  Traffic"/>
              </a:rPr>
              <a:t>3</a:t>
            </a:r>
            <a:r>
              <a:rPr b="0" lang="fa-IR" sz="3200" spc="-1" strike="noStrike">
                <a:solidFill>
                  <a:srgbClr val="000000"/>
                </a:solidFill>
                <a:latin typeface="Gill Sans MT"/>
                <a:ea typeface="2  Traffic"/>
              </a:rPr>
              <a:t> دیدگاه در انتخاب محتوا وجود دارد</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Traffic"/>
              </a:rPr>
              <a:t>1</a:t>
            </a:r>
            <a:r>
              <a:rPr b="0" lang="fa-IR" sz="3200" spc="-1" strike="noStrike">
                <a:solidFill>
                  <a:srgbClr val="000000"/>
                </a:solidFill>
                <a:latin typeface="Gill Sans MT"/>
                <a:ea typeface="2  Traffic"/>
              </a:rPr>
              <a:t>- دید گاه سنتی:به انتقال میراث فرهنگی گذشته</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Traffic"/>
              </a:rPr>
              <a:t>2</a:t>
            </a:r>
            <a:r>
              <a:rPr b="0" lang="fa-IR" sz="3200" spc="-1" strike="noStrike">
                <a:solidFill>
                  <a:srgbClr val="000000"/>
                </a:solidFill>
                <a:latin typeface="Gill Sans MT"/>
                <a:ea typeface="2  Traffic"/>
              </a:rPr>
              <a:t>-دیدگاه پویا:آماده کردن دانش آموز برای حل مشکلات امروز و آینده</a:t>
            </a:r>
            <a:endParaRPr b="0" lang="en-US" sz="3200" spc="-1" strike="noStrike">
              <a:solidFill>
                <a:srgbClr val="000000"/>
              </a:solidFill>
              <a:latin typeface="Gill Sans MT"/>
            </a:endParaRPr>
          </a:p>
          <a:p>
            <a:pPr marL="317520" indent="-2455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Traffic"/>
              </a:rPr>
              <a:t>3</a:t>
            </a:r>
            <a:r>
              <a:rPr b="0" lang="fa-IR" sz="3200" spc="-1" strike="noStrike">
                <a:solidFill>
                  <a:srgbClr val="000000"/>
                </a:solidFill>
                <a:latin typeface="Gill Sans MT"/>
                <a:ea typeface="2  Traffic"/>
              </a:rPr>
              <a:t>- دیدگاه سازنده:شاگرد را برای تغییرات اجتماعی و ساختن جامعه بهتر که خود بسازد)</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0000"/>
                </a:solidFill>
                <a:latin typeface="Gill Sans MT"/>
                <a:cs typeface="2  Titr"/>
              </a:rPr>
              <a:t>فصل دوم</a:t>
            </a:r>
            <a:endParaRPr b="0" lang="en-US" sz="6000" spc="-1" strike="noStrike">
              <a:solidFill>
                <a:srgbClr val="572314"/>
              </a:solidFill>
              <a:latin typeface="Gill Sans MT"/>
            </a:endParaRPr>
          </a:p>
        </p:txBody>
      </p:sp>
      <p:sp>
        <p:nvSpPr>
          <p:cNvPr id="596" name=""/>
          <p:cNvSpPr txBox="1"/>
          <p:nvPr/>
        </p:nvSpPr>
        <p:spPr>
          <a:xfrm>
            <a:off x="1434960" y="1447560"/>
            <a:ext cx="7499520" cy="4800600"/>
          </a:xfrm>
          <a:prstGeom prst="rect">
            <a:avLst/>
          </a:prstGeom>
          <a:noFill/>
          <a:ln w="0">
            <a:noFill/>
          </a:ln>
        </p:spPr>
        <p:txBody>
          <a:bodyPr anchor="t">
            <a:normAutofit/>
          </a:bodyPr>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Gill Sans MT"/>
                <a:cs typeface="2  Koodak"/>
              </a:rPr>
              <a:t>تحلیل محتوای متن نوشتاری درس</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90720" y="274320"/>
            <a:ext cx="794376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572314"/>
                </a:solidFill>
                <a:latin typeface="Gill Sans MT"/>
                <a:cs typeface="2  Titr"/>
              </a:rPr>
              <a:t>انواع روش های تحلیل محتوای متن نوشتاری</a:t>
            </a:r>
            <a:endParaRPr b="0" lang="en-US" sz="3900" spc="-1" strike="noStrike">
              <a:solidFill>
                <a:srgbClr val="572314"/>
              </a:solidFill>
              <a:latin typeface="Gill Sans MT"/>
            </a:endParaRPr>
          </a:p>
        </p:txBody>
      </p:sp>
      <p:sp>
        <p:nvSpPr>
          <p:cNvPr id="598" name=""/>
          <p:cNvSpPr txBox="1"/>
          <p:nvPr/>
        </p:nvSpPr>
        <p:spPr>
          <a:xfrm>
            <a:off x="838080" y="1447560"/>
            <a:ext cx="8096400" cy="4800600"/>
          </a:xfrm>
          <a:prstGeom prst="rect">
            <a:avLst/>
          </a:prstGeom>
          <a:noFill/>
          <a:ln w="0">
            <a:noFill/>
          </a:ln>
        </p:spPr>
        <p:txBody>
          <a:bodyPr anchor="t">
            <a:normAutofit fontScale="90000"/>
          </a:bodyPr>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Gill Sans MT"/>
                <a:ea typeface="2  Koodak"/>
              </a:rPr>
              <a:t>1</a:t>
            </a:r>
            <a:r>
              <a:rPr b="0" lang="fa-IR" sz="4000" spc="-1" strike="noStrike">
                <a:solidFill>
                  <a:srgbClr val="ff0000"/>
                </a:solidFill>
                <a:latin typeface="Gill Sans MT"/>
                <a:ea typeface="2  Koodak"/>
              </a:rPr>
              <a:t>- تحلیل محتوای توصیفی:</a:t>
            </a:r>
            <a:endParaRPr b="0" lang="en-US" sz="4000" spc="-1" strike="noStrike">
              <a:solidFill>
                <a:srgbClr val="000000"/>
              </a:solidFill>
              <a:latin typeface="Gill Sans MT"/>
            </a:endParaRPr>
          </a:p>
          <a:p>
            <a:pPr marL="328320" indent="-254160" algn="just" rtl="1">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تحلیل محتوای توصیفی روش تحلیلی بعد از وقوع است. یعنی </a:t>
            </a:r>
            <a:r>
              <a:rPr b="0" lang="fa-IR" sz="2800" spc="-1" strike="noStrike">
                <a:solidFill>
                  <a:srgbClr val="ff0000"/>
                </a:solidFill>
                <a:latin typeface="Gill Sans MT"/>
                <a:cs typeface="2  Koodak"/>
              </a:rPr>
              <a:t>توصیف کمی محتوای بارز یک متن</a:t>
            </a:r>
            <a:r>
              <a:rPr b="0" lang="fa-IR" sz="2800" spc="-1" strike="noStrike">
                <a:solidFill>
                  <a:srgbClr val="000000"/>
                </a:solidFill>
                <a:latin typeface="Gill Sans MT"/>
                <a:ea typeface="2  Koodak"/>
              </a:rPr>
              <a:t>. این روش قدیمی ترین روش تحلیل محتواست. در گام اول یک تحلیل توصیفی تحلیل متن است از این رو می توان متن را به اجزایی تقسیم بندی نمود که این اجزا شامل متن نوشتاری ،تصاویر ،تمرین است  و تحلیل را در مورد هر جز به طور جداگانه با اهداف کتاب درسی  انجام داد</a:t>
            </a:r>
            <a:r>
              <a:rPr b="0" lang="en-US" sz="2800" spc="-1" strike="noStrike">
                <a:solidFill>
                  <a:srgbClr val="000000"/>
                </a:solidFill>
                <a:latin typeface="Gill Sans MT"/>
                <a:ea typeface="2  Koodak"/>
              </a:rPr>
              <a:t>. </a:t>
            </a:r>
            <a:endParaRPr b="0" lang="en-US" sz="2800" spc="-1" strike="noStrike">
              <a:solidFill>
                <a:srgbClr val="000000"/>
              </a:solidFill>
              <a:latin typeface="Gill Sans MT"/>
            </a:endParaRPr>
          </a:p>
          <a:p>
            <a:pPr marL="328320" indent="-25416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چگونگی تحلیل کتاب درسی:</a:t>
            </a:r>
            <a:endParaRPr b="0" lang="en-US" sz="4300" spc="-1" strike="noStrike">
              <a:solidFill>
                <a:srgbClr val="572314"/>
              </a:solidFill>
              <a:latin typeface="Gill Sans MT"/>
            </a:endParaRPr>
          </a:p>
        </p:txBody>
      </p:sp>
      <p:sp>
        <p:nvSpPr>
          <p:cNvPr id="567" name=""/>
          <p:cNvSpPr txBox="1"/>
          <p:nvPr/>
        </p:nvSpPr>
        <p:spPr>
          <a:xfrm>
            <a:off x="761760" y="1447920"/>
            <a:ext cx="8381880" cy="54100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هر گروه یک کتاب درسی از کتابهای دوره ابتدایی را انتخاب کرده و هر هفته فصلی از منبع خوانده می شود کتاب درسی را طبق آنچه که در فصل های منبع است تحلیل شود</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سوالات خود را از طریق واتساپ بپرسید.</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مراحل این تحلیل:</a:t>
            </a:r>
            <a:endParaRPr b="0" lang="en-US" sz="4300" spc="-1" strike="noStrike">
              <a:solidFill>
                <a:srgbClr val="572314"/>
              </a:solidFill>
              <a:latin typeface="Gill Sans MT"/>
            </a:endParaRPr>
          </a:p>
        </p:txBody>
      </p:sp>
      <p:sp>
        <p:nvSpPr>
          <p:cNvPr id="600" name=""/>
          <p:cNvSpPr txBox="1"/>
          <p:nvPr/>
        </p:nvSpPr>
        <p:spPr>
          <a:xfrm>
            <a:off x="761760" y="1218960"/>
            <a:ext cx="8172360" cy="5638680"/>
          </a:xfrm>
          <a:prstGeom prst="rect">
            <a:avLst/>
          </a:prstGeom>
          <a:noFill/>
          <a:ln w="0">
            <a:noFill/>
          </a:ln>
        </p:spPr>
        <p:txBody>
          <a:bodyPr anchor="t">
            <a:normAutofit fontScale="93000"/>
          </a:bodyPr>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1</a:t>
            </a:r>
            <a:r>
              <a:rPr b="0" lang="fa-IR" sz="3200" spc="-1" strike="noStrike">
                <a:solidFill>
                  <a:srgbClr val="000000"/>
                </a:solidFill>
                <a:latin typeface="Gill Sans MT"/>
                <a:ea typeface="2  Koodak"/>
              </a:rPr>
              <a:t>-انتخاب جامعه آماری (یک بخش ،یک فصل و...)</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2</a:t>
            </a:r>
            <a:r>
              <a:rPr b="0" lang="fa-IR" sz="3200" spc="-1" strike="noStrike">
                <a:solidFill>
                  <a:srgbClr val="000000"/>
                </a:solidFill>
                <a:latin typeface="Gill Sans MT"/>
                <a:ea typeface="2  Koodak"/>
              </a:rPr>
              <a:t>-معیار توصیف (مثلا قواعد دستور زبان،قواعد ریاضی ،قوانین طبیعت و...)</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3</a:t>
            </a:r>
            <a:r>
              <a:rPr b="0" lang="fa-IR" sz="3200" spc="-1" strike="noStrike">
                <a:solidFill>
                  <a:srgbClr val="000000"/>
                </a:solidFill>
                <a:latin typeface="Gill Sans MT"/>
                <a:ea typeface="2  Koodak"/>
              </a:rPr>
              <a:t>-انتخاب یک طبقه بندی براساس معیار توصیف (مثلا زمان فعل ها- قوانین جمع –چرخه آب )</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4</a:t>
            </a:r>
            <a:r>
              <a:rPr b="0" lang="fa-IR" sz="3200" spc="-1" strike="noStrike">
                <a:solidFill>
                  <a:srgbClr val="000000"/>
                </a:solidFill>
                <a:latin typeface="Gill Sans MT"/>
                <a:ea typeface="2  Koodak"/>
              </a:rPr>
              <a:t>-تعیین واحد ثبت:</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Koodak"/>
              </a:rPr>
              <a:t>به بخش معنی داری از محتوا اطلاق می گردد که برای انجام تحلیل کتاب درسی از محتوا انتخاب شده و در طبقه مربوطه قرار داده می شود و سپس مورد شمارش قرار </a:t>
            </a:r>
            <a:endParaRPr b="0" lang="en-US" sz="3200" spc="-1" strike="noStrike">
              <a:solidFill>
                <a:srgbClr val="000000"/>
              </a:solidFill>
              <a:latin typeface="Gill Sans MT"/>
            </a:endParaRPr>
          </a:p>
          <a:p>
            <a:pPr marL="339480" indent="-262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Koodak"/>
              </a:rPr>
              <a:t>می گیرد مانند جمله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1447920" y="914040"/>
            <a:ext cx="7486560" cy="533412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5</a:t>
            </a:r>
            <a:r>
              <a:rPr b="0" lang="fa-IR" sz="3200" spc="-1" strike="noStrike">
                <a:solidFill>
                  <a:srgbClr val="000000"/>
                </a:solidFill>
                <a:latin typeface="Gill Sans MT"/>
                <a:ea typeface="2  Koodak"/>
              </a:rPr>
              <a:t>-تشخیص عناصر هر طبقه</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Koodak"/>
              </a:rPr>
              <a:t>در این مرحله باید همه محتوا انتخاب شده مورد مطالعه قرار گیرد و هرجمله یا واحد ثبت  را علامت گذاری کنیم</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6</a:t>
            </a:r>
            <a:r>
              <a:rPr b="0" lang="fa-IR" sz="3200" spc="-1" strike="noStrike">
                <a:solidFill>
                  <a:srgbClr val="000000"/>
                </a:solidFill>
                <a:latin typeface="Gill Sans MT"/>
                <a:ea typeface="2  Koodak"/>
              </a:rPr>
              <a:t>-پردازش اطلاعات و نتیجه گیری</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ea typeface="2  Koodak"/>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ea typeface="2  Titr"/>
              </a:rPr>
              <a:t>2</a:t>
            </a:r>
            <a:r>
              <a:rPr b="0" lang="fa-IR" sz="4300" spc="-1" strike="noStrike">
                <a:solidFill>
                  <a:srgbClr val="572314"/>
                </a:solidFill>
                <a:latin typeface="Gill Sans MT"/>
                <a:ea typeface="2  Titr"/>
              </a:rPr>
              <a:t>-تحلیل محتوای استنباطی:</a:t>
            </a:r>
            <a:endParaRPr b="0" lang="en-US" sz="4300" spc="-1" strike="noStrike">
              <a:solidFill>
                <a:srgbClr val="572314"/>
              </a:solidFill>
              <a:latin typeface="Gill Sans MT"/>
            </a:endParaRPr>
          </a:p>
        </p:txBody>
      </p:sp>
      <p:sp>
        <p:nvSpPr>
          <p:cNvPr id="603" name=""/>
          <p:cNvSpPr txBox="1"/>
          <p:nvPr/>
        </p:nvSpPr>
        <p:spPr>
          <a:xfrm>
            <a:off x="838080" y="1447560"/>
            <a:ext cx="8096400" cy="480060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روشی است که محقق را قادر می سازد تا </a:t>
            </a:r>
            <a:r>
              <a:rPr b="0" lang="fa-IR" sz="2800" spc="-1" strike="noStrike">
                <a:solidFill>
                  <a:srgbClr val="ff0000"/>
                </a:solidFill>
                <a:latin typeface="Gill Sans MT"/>
                <a:cs typeface="2  Koodak"/>
              </a:rPr>
              <a:t>برخی از واقعیات اجتماعی مربوط به زمان تولید کتاب درسی ، پیش بینی تاثیرات کتاب درسی برفراگیران و جهت گیری های خاص اعلام نشده کتاب درسی را مورد بررسی قرار دهد.</a:t>
            </a: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این روش صرفا توصیف محتوای متن را مد نظر ندارد بلکه هدف آن نتیجه گیری از محتوای یک متن در مورد جنبه هایی از واقعیت اجتماعی است</a:t>
            </a:r>
            <a:r>
              <a:rPr b="0" lang="en-US" sz="2800" spc="-1" strike="noStrike">
                <a:solidFill>
                  <a:srgbClr val="000000"/>
                </a:solidFill>
                <a:latin typeface="Gill Sans MT"/>
                <a:ea typeface="2  Koodak"/>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90720" y="274320"/>
            <a:ext cx="794376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ea typeface="2  Titr"/>
              </a:rPr>
              <a:t>3</a:t>
            </a:r>
            <a:r>
              <a:rPr b="0" lang="fa-IR" sz="4300" spc="-1" strike="noStrike">
                <a:solidFill>
                  <a:srgbClr val="572314"/>
                </a:solidFill>
                <a:latin typeface="Gill Sans MT"/>
                <a:ea typeface="2  Titr"/>
              </a:rPr>
              <a:t>-روش ویلیام رومی</a:t>
            </a:r>
            <a:endParaRPr b="0" lang="en-US" sz="4300" spc="-1" strike="noStrike">
              <a:solidFill>
                <a:srgbClr val="572314"/>
              </a:solidFill>
              <a:latin typeface="Gill Sans MT"/>
            </a:endParaRPr>
          </a:p>
        </p:txBody>
      </p:sp>
      <p:sp>
        <p:nvSpPr>
          <p:cNvPr id="605" name=""/>
          <p:cNvSpPr txBox="1"/>
          <p:nvPr/>
        </p:nvSpPr>
        <p:spPr>
          <a:xfrm>
            <a:off x="990720" y="1447560"/>
            <a:ext cx="7696080" cy="4800600"/>
          </a:xfrm>
          <a:prstGeom prst="rect">
            <a:avLst/>
          </a:prstGeom>
          <a:noFill/>
          <a:ln w="0">
            <a:noFill/>
          </a:ln>
        </p:spPr>
        <p:txBody>
          <a:bodyPr anchor="t">
            <a:normAutofit fontScale="88000"/>
          </a:bodyPr>
          <a:p>
            <a:pPr marL="321120" indent="-2484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یک روش </a:t>
            </a:r>
            <a:r>
              <a:rPr b="0" lang="fa-IR" sz="2800" spc="-1" strike="noStrike">
                <a:solidFill>
                  <a:srgbClr val="ff0000"/>
                </a:solidFill>
                <a:latin typeface="Gill Sans MT"/>
                <a:cs typeface="2  Koodak"/>
              </a:rPr>
              <a:t>تحلیل کمی</a:t>
            </a:r>
            <a:r>
              <a:rPr b="0" lang="fa-IR" sz="2800" spc="-1" strike="noStrike">
                <a:solidFill>
                  <a:srgbClr val="000000"/>
                </a:solidFill>
                <a:latin typeface="Gill Sans MT"/>
                <a:ea typeface="2  Koodak"/>
              </a:rPr>
              <a:t> است. که به </a:t>
            </a:r>
            <a:r>
              <a:rPr b="0" lang="fa-IR" sz="2800" spc="-1" strike="noStrike">
                <a:solidFill>
                  <a:srgbClr val="ff0000"/>
                </a:solidFill>
                <a:latin typeface="Gill Sans MT"/>
                <a:cs typeface="2  Koodak"/>
              </a:rPr>
              <a:t>توصیف عینی و منظم محتوای آشکار مطالب درسی و آزمایشگاهی می پردازد</a:t>
            </a:r>
            <a:r>
              <a:rPr b="0" lang="en-US" sz="2800" spc="-1" strike="noStrike">
                <a:solidFill>
                  <a:srgbClr val="ff0000"/>
                </a:solidFill>
                <a:latin typeface="Gill Sans MT"/>
                <a:ea typeface="2  Koodak"/>
              </a:rPr>
              <a:t>.</a:t>
            </a:r>
            <a:br>
              <a:rPr sz="2800"/>
            </a:br>
            <a:r>
              <a:rPr b="0" lang="fa-IR" sz="2800" spc="-1" strike="noStrike">
                <a:solidFill>
                  <a:srgbClr val="000000"/>
                </a:solidFill>
                <a:latin typeface="Gill Sans MT"/>
                <a:cs typeface="2  Koodak"/>
              </a:rPr>
              <a:t>مراحل اصلی تحلیل محتوا عبارتند از: تعیین هدف، نمونه گیری، رمز گذاری و مقوله بندی طبقه بندی مقوله ها، ارزیابی عینی طبقه ها</a:t>
            </a:r>
            <a:r>
              <a:rPr b="0" lang="en-US" sz="2800" spc="-1" strike="noStrike">
                <a:solidFill>
                  <a:srgbClr val="000000"/>
                </a:solidFill>
                <a:latin typeface="Gill Sans MT"/>
                <a:ea typeface="2  Koodak"/>
              </a:rPr>
              <a:t>. </a:t>
            </a:r>
            <a:br>
              <a:rPr sz="2800"/>
            </a:br>
            <a:r>
              <a:rPr b="0" lang="fa-IR" sz="2800" spc="-1" strike="noStrike">
                <a:solidFill>
                  <a:srgbClr val="000000"/>
                </a:solidFill>
                <a:latin typeface="Gill Sans MT"/>
                <a:cs typeface="2  Koodak"/>
              </a:rPr>
              <a:t>درباره هدف روش تحلیل محتوای ویلیام رومی می توان گفت </a:t>
            </a:r>
            <a:r>
              <a:rPr b="0" lang="fa-IR" sz="2800" spc="-1" strike="noStrike">
                <a:solidFill>
                  <a:srgbClr val="ff0000"/>
                </a:solidFill>
                <a:latin typeface="Gill Sans MT"/>
                <a:cs typeface="2  Koodak"/>
              </a:rPr>
              <a:t>که هدف آن بررسی این موضوع است که آیا کتاب و یا محتوای مورد نظر، دانش آموزان را به طور فعال با آموزش یادگیری درگیر می نماید؟ به عبارت دیگر هدف این است که بسنجیم آیا کتاب به شیوه فعالی ارائه و تدوین و تنظیم شده است یا خیر؟ </a:t>
            </a:r>
            <a:br>
              <a:rPr sz="2400"/>
            </a:br>
            <a:r>
              <a:rPr b="0" lang="en-US" sz="2400" spc="-1" strike="noStrike">
                <a:solidFill>
                  <a:srgbClr val="ff0000"/>
                </a:solidFill>
                <a:latin typeface="Gill Sans MT"/>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572314"/>
                </a:solidFill>
                <a:latin typeface="Gill Sans MT"/>
                <a:cs typeface="2  Titr"/>
              </a:rPr>
              <a:t>ارزشیابی متن درس به روش ویلیام رومی</a:t>
            </a:r>
            <a:endParaRPr b="0" lang="en-US" sz="3900" spc="-1" strike="noStrike">
              <a:solidFill>
                <a:srgbClr val="572314"/>
              </a:solidFill>
              <a:latin typeface="Gill Sans MT"/>
            </a:endParaRPr>
          </a:p>
        </p:txBody>
      </p:sp>
      <p:sp>
        <p:nvSpPr>
          <p:cNvPr id="607" name=""/>
          <p:cNvSpPr txBox="1"/>
          <p:nvPr/>
        </p:nvSpPr>
        <p:spPr>
          <a:xfrm>
            <a:off x="990720" y="1447560"/>
            <a:ext cx="7943760" cy="5181480"/>
          </a:xfrm>
          <a:prstGeom prst="rect">
            <a:avLst/>
          </a:prstGeom>
          <a:noFill/>
          <a:ln w="0">
            <a:noFill/>
          </a:ln>
        </p:spPr>
        <p:txBody>
          <a:bodyPr anchor="t">
            <a:normAutofit/>
          </a:bodyPr>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Koodak"/>
              </a:rPr>
              <a:t>به طور تصادفی </a:t>
            </a:r>
            <a:r>
              <a:rPr b="0" lang="fa-IR" sz="3200" spc="-1" strike="noStrike">
                <a:solidFill>
                  <a:srgbClr val="000000"/>
                </a:solidFill>
                <a:latin typeface="Gill Sans MT"/>
                <a:ea typeface="2  Koodak"/>
              </a:rPr>
              <a:t>10</a:t>
            </a:r>
            <a:r>
              <a:rPr b="0" lang="fa-IR" sz="3200" spc="-1" strike="noStrike">
                <a:solidFill>
                  <a:srgbClr val="000000"/>
                </a:solidFill>
                <a:latin typeface="Gill Sans MT"/>
                <a:ea typeface="2  Koodak"/>
              </a:rPr>
              <a:t> صفحه یا صفحات بیشتری از                             قسمت های گوناگون یک کتاب را انتخاب کرده و علامت گذاری نمایند</a:t>
            </a:r>
            <a:r>
              <a:rPr b="0" lang="en-US" sz="3200" spc="-1" strike="noStrike">
                <a:solidFill>
                  <a:srgbClr val="000000"/>
                </a:solidFill>
                <a:latin typeface="Gill Sans MT"/>
                <a:ea typeface="2  Koodak"/>
              </a:rPr>
              <a:t>. </a:t>
            </a:r>
            <a:endParaRPr b="0" lang="en-US" sz="32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Koodak"/>
              </a:rPr>
              <a:t>در هر یک از صفحات انتخابی، </a:t>
            </a:r>
            <a:r>
              <a:rPr b="0" lang="fa-IR" sz="3200" spc="-1" strike="noStrike">
                <a:solidFill>
                  <a:srgbClr val="000000"/>
                </a:solidFill>
                <a:latin typeface="Gill Sans MT"/>
                <a:ea typeface="2  Koodak"/>
              </a:rPr>
              <a:t>25</a:t>
            </a:r>
            <a:r>
              <a:rPr b="0" lang="fa-IR" sz="3200" spc="-1" strike="noStrike">
                <a:solidFill>
                  <a:srgbClr val="000000"/>
                </a:solidFill>
                <a:latin typeface="Gill Sans MT"/>
                <a:ea typeface="2  Koodak"/>
              </a:rPr>
              <a:t> جمله یا بیشتر را مطالعه نموده و هر کدام را در یکی از مقوله های زیر قرار دهید. ا</a:t>
            </a:r>
            <a:r>
              <a:rPr b="0" lang="fa-IR" sz="3200" spc="-1" strike="noStrike">
                <a:solidFill>
                  <a:srgbClr val="ff0000"/>
                </a:solidFill>
                <a:latin typeface="Gill Sans MT"/>
                <a:cs typeface="2  Koodak"/>
              </a:rPr>
              <a:t>ین جملات شامل عناوین، شرح زیر تصاویر و پیشگفتار و یا مقدمه های فصول نمی شود</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38080" y="380880"/>
            <a:ext cx="8096400" cy="6477120"/>
          </a:xfrm>
          <a:prstGeom prst="rect">
            <a:avLst/>
          </a:prstGeom>
          <a:noFill/>
          <a:ln w="0">
            <a:noFill/>
          </a:ln>
        </p:spPr>
        <p:txBody>
          <a:bodyPr anchor="t">
            <a:normAutofit fontScale="97000"/>
          </a:bodyPr>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MT"/>
                <a:ea typeface="2  Koodak"/>
              </a:rPr>
              <a:t> </a:t>
            </a:r>
            <a:r>
              <a:rPr b="0" lang="en-US" sz="3200" spc="-1" strike="noStrike">
                <a:solidFill>
                  <a:srgbClr val="ff0000"/>
                </a:solidFill>
                <a:latin typeface="Gill Sans MT"/>
              </a:rPr>
              <a:t>a</a:t>
            </a:r>
            <a:r>
              <a:rPr b="0" lang="fa-IR" sz="3200" spc="-1" strike="noStrike">
                <a:solidFill>
                  <a:srgbClr val="ff0000"/>
                </a:solidFill>
                <a:latin typeface="Gill Sans MT"/>
                <a:ea typeface="Majalla UI"/>
              </a:rPr>
              <a:t>)</a:t>
            </a:r>
            <a:r>
              <a:rPr b="0" lang="fa-IR" sz="3200" spc="-1" strike="noStrike">
                <a:solidFill>
                  <a:srgbClr val="ff0000"/>
                </a:solidFill>
                <a:latin typeface="Gill Sans MT"/>
                <a:cs typeface="2  Koodak"/>
              </a:rPr>
              <a:t>بیان حقیقت</a:t>
            </a:r>
            <a:r>
              <a:rPr b="0" lang="fa-IR" sz="3200" spc="-1" strike="noStrike">
                <a:solidFill>
                  <a:srgbClr val="000000"/>
                </a:solidFill>
                <a:latin typeface="Gill Sans MT"/>
                <a:ea typeface="2  Koodak"/>
              </a:rPr>
              <a:t>: بیان حقیقت عبارتست از بیان ساده مفروضات و یا مشاهداتی که بوسیله فرد دیگری غیر از دانش آموز انجام پذیرفته است</a:t>
            </a:r>
            <a:r>
              <a:rPr b="0" lang="en-US" sz="3200" spc="-1" strike="noStrike">
                <a:solidFill>
                  <a:srgbClr val="000000"/>
                </a:solidFill>
                <a:latin typeface="Gill Sans MT"/>
                <a:ea typeface="2  Koodak"/>
              </a:rPr>
              <a:t>. </a:t>
            </a:r>
            <a:br>
              <a:rPr sz="3200"/>
            </a:br>
            <a:r>
              <a:rPr b="0" lang="fa-IR" sz="3200" spc="-1" strike="noStrike">
                <a:solidFill>
                  <a:srgbClr val="000000"/>
                </a:solidFill>
                <a:latin typeface="Gill Sans MT"/>
                <a:cs typeface="2  Koodak"/>
              </a:rPr>
              <a:t>مثال: در هوا دو عنصر نیتروژن و اکسیژن به مقدار زیاد و دو ماده مرکب دی اکسید کربن و بخار آب به مقدار کم با هم مخلوط شده اند</a:t>
            </a:r>
            <a:r>
              <a:rPr b="0" lang="en-US" sz="3200" spc="-1" strike="noStrike">
                <a:solidFill>
                  <a:srgbClr val="000000"/>
                </a:solidFill>
                <a:latin typeface="Gill Sans MT"/>
                <a:ea typeface="2  Koodak"/>
              </a:rPr>
              <a:t>. </a:t>
            </a:r>
            <a:br>
              <a:rPr sz="3200"/>
            </a:br>
            <a:r>
              <a:rPr b="0" lang="en-US" sz="3200" spc="-1" strike="noStrike">
                <a:solidFill>
                  <a:srgbClr val="ff0000"/>
                </a:solidFill>
                <a:latin typeface="Gill Sans MT"/>
                <a:ea typeface="2  Koodak"/>
              </a:rPr>
              <a:t>b</a:t>
            </a:r>
            <a:r>
              <a:rPr b="0" lang="en-US" sz="3200" spc="-1" strike="noStrike">
                <a:solidFill>
                  <a:srgbClr val="ff0000"/>
                </a:solidFill>
                <a:latin typeface="Gill Sans MT"/>
                <a:ea typeface="2  Koodak"/>
              </a:rPr>
              <a:t> </a:t>
            </a:r>
            <a:r>
              <a:rPr b="0" lang="fa-IR" sz="3200" spc="-1" strike="noStrike">
                <a:solidFill>
                  <a:srgbClr val="ff0000"/>
                </a:solidFill>
                <a:latin typeface="Gill Sans MT"/>
                <a:ea typeface="2  Koodak"/>
              </a:rPr>
              <a:t>)بیان نتایج یا اصول کلی (تعمیم ها): </a:t>
            </a:r>
            <a:r>
              <a:rPr b="0" lang="fa-IR" sz="3200" spc="-1" strike="noStrike">
                <a:solidFill>
                  <a:srgbClr val="000000"/>
                </a:solidFill>
                <a:latin typeface="Gill Sans MT"/>
                <a:cs typeface="2  Koodak"/>
              </a:rPr>
              <a:t>منظور از بیان نتایج یا اصول کلی عبارتست از نظرات ارائه شده توسط نویسندگان کتاب درباره ارتباط بین مفروضات و موضوعات مختلف</a:t>
            </a:r>
            <a:r>
              <a:rPr b="0" lang="en-US" sz="3200" spc="-1" strike="noStrike">
                <a:solidFill>
                  <a:srgbClr val="000000"/>
                </a:solidFill>
                <a:latin typeface="Gill Sans MT"/>
                <a:ea typeface="2  Koodak"/>
              </a:rPr>
              <a:t>.</a:t>
            </a:r>
            <a:br>
              <a:rPr sz="3200"/>
            </a:br>
            <a:r>
              <a:rPr b="0" lang="fa-IR" sz="3200" spc="-1" strike="noStrike">
                <a:solidFill>
                  <a:srgbClr val="000000"/>
                </a:solidFill>
                <a:latin typeface="Gill Sans MT"/>
                <a:cs typeface="2  Koodak"/>
              </a:rPr>
              <a:t>مثال : شاید بهترین کمکی که می توانید به دستگاه گوارش خود بکنید این است که خود را شاد نگه دارید</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533520" y="304920"/>
            <a:ext cx="8400960" cy="6400800"/>
          </a:xfrm>
          <a:prstGeom prst="rect">
            <a:avLst/>
          </a:prstGeom>
          <a:noFill/>
          <a:ln w="0">
            <a:noFill/>
          </a:ln>
        </p:spPr>
        <p:txBody>
          <a:bodyPr anchor="t">
            <a:normAutofit fontScale="97000"/>
          </a:bodyPr>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c</a:t>
            </a:r>
            <a:r>
              <a:rPr b="0" lang="en-US" sz="2800" spc="-1" strike="noStrike">
                <a:solidFill>
                  <a:srgbClr val="ff0000"/>
                </a:solidFill>
                <a:latin typeface="Gill Sans MT"/>
                <a:ea typeface="2  Koodak"/>
              </a:rPr>
              <a:t> </a:t>
            </a:r>
            <a:r>
              <a:rPr b="0" lang="fa-IR" sz="2800" spc="-1" strike="noStrike">
                <a:solidFill>
                  <a:srgbClr val="ff0000"/>
                </a:solidFill>
                <a:latin typeface="Gill Sans MT"/>
                <a:ea typeface="2  Koodak"/>
              </a:rPr>
              <a:t>)تعاریف: </a:t>
            </a:r>
            <a:r>
              <a:rPr b="0" lang="fa-IR" sz="2800" spc="-1" strike="noStrike">
                <a:solidFill>
                  <a:srgbClr val="000000"/>
                </a:solidFill>
                <a:latin typeface="Gill Sans MT"/>
                <a:cs typeface="2  Koodak"/>
              </a:rPr>
              <a:t>منظور جملات یا جمله ای است که برای توصیف و تشریح یک واژه یا اصطلاح آورده می شود</a:t>
            </a:r>
            <a:r>
              <a:rPr b="0" lang="en-US" sz="2800" spc="-1" strike="noStrike">
                <a:solidFill>
                  <a:srgbClr val="000000"/>
                </a:solidFill>
                <a:latin typeface="Gill Sans MT"/>
                <a:ea typeface="2  Koodak"/>
              </a:rPr>
              <a:t>.</a:t>
            </a:r>
            <a:br>
              <a:rPr sz="2800"/>
            </a:br>
            <a:r>
              <a:rPr b="0" lang="fa-IR" sz="2800" spc="-1" strike="noStrike">
                <a:solidFill>
                  <a:srgbClr val="000000"/>
                </a:solidFill>
                <a:latin typeface="Gill Sans MT"/>
                <a:cs typeface="2  Koodak"/>
              </a:rPr>
              <a:t>مثال: هیجان عبارتست از یک واکنش کلی و شدید ارگانیزم به یک موقعیت غیر منتظره، همراه با یک حالت عاطفی خوشایند و یا ناخوشایند</a:t>
            </a:r>
            <a:r>
              <a:rPr b="0" lang="en-US" sz="2800" spc="-1" strike="noStrike">
                <a:solidFill>
                  <a:srgbClr val="000000"/>
                </a:solidFill>
                <a:latin typeface="Gill Sans MT"/>
                <a:ea typeface="2  Koodak"/>
              </a:rPr>
              <a:t>. </a:t>
            </a:r>
            <a:br>
              <a:rPr sz="2800"/>
            </a:br>
            <a:r>
              <a:rPr b="0" lang="en-US" sz="2800" spc="-1" strike="noStrike">
                <a:solidFill>
                  <a:srgbClr val="ff0000"/>
                </a:solidFill>
                <a:latin typeface="Gill Sans MT"/>
                <a:ea typeface="2  Koodak"/>
              </a:rPr>
              <a:t>(</a:t>
            </a:r>
            <a:r>
              <a:rPr b="0" lang="en-US" sz="2800" spc="-1" strike="noStrike">
                <a:solidFill>
                  <a:srgbClr val="ff0000"/>
                </a:solidFill>
                <a:latin typeface="Gill Sans MT"/>
                <a:ea typeface="2  Koodak"/>
              </a:rPr>
              <a:t>d</a:t>
            </a:r>
            <a:r>
              <a:rPr b="0" lang="en-US" sz="2800" spc="-1" strike="noStrike">
                <a:solidFill>
                  <a:srgbClr val="ff0000"/>
                </a:solidFill>
                <a:latin typeface="Gill Sans MT"/>
                <a:ea typeface="2  Koodak"/>
              </a:rPr>
              <a:t> </a:t>
            </a:r>
            <a:r>
              <a:rPr b="0" lang="fa-IR" sz="2800" spc="-1" strike="noStrike">
                <a:solidFill>
                  <a:srgbClr val="ff0000"/>
                </a:solidFill>
                <a:latin typeface="Gill Sans MT"/>
                <a:cs typeface="2  Koodak"/>
              </a:rPr>
              <a:t>سوالاتی که در متن مطرح شده و جواب آنها بلافاصله بوسیله مولف داده شده است</a:t>
            </a:r>
            <a:r>
              <a:rPr b="0" lang="en-US" sz="2800" spc="-1" strike="noStrike">
                <a:solidFill>
                  <a:srgbClr val="ff0000"/>
                </a:solidFill>
                <a:latin typeface="Gill Sans MT"/>
                <a:ea typeface="2  Koodak"/>
              </a:rPr>
              <a:t>. </a:t>
            </a:r>
            <a:br>
              <a:rPr sz="2800"/>
            </a:br>
            <a:r>
              <a:rPr b="0" lang="fa-IR" sz="2800" spc="-1" strike="noStrike">
                <a:solidFill>
                  <a:srgbClr val="000000"/>
                </a:solidFill>
                <a:latin typeface="Gill Sans MT"/>
                <a:cs typeface="2  Koodak"/>
              </a:rPr>
              <a:t>مثال: همه مواد آلی که در بدن موجودات زنده یافت می شوند، دارای کربن هستند، این کربن از کجا می آید؟ </a:t>
            </a:r>
            <a:br>
              <a:rPr sz="2800"/>
            </a:br>
            <a:r>
              <a:rPr b="0" lang="en-US" sz="2800" spc="-1" strike="noStrike">
                <a:solidFill>
                  <a:srgbClr val="000000"/>
                </a:solidFill>
                <a:latin typeface="Gill Sans MT"/>
                <a:ea typeface="2  Koodak"/>
              </a:rPr>
              <a:t>e</a:t>
            </a:r>
            <a:r>
              <a:rPr b="0" lang="en-US" sz="2800" spc="-1" strike="noStrike">
                <a:solidFill>
                  <a:srgbClr val="000000"/>
                </a:solidFill>
                <a:latin typeface="Gill Sans MT"/>
                <a:ea typeface="2  Koodak"/>
              </a:rPr>
              <a:t> </a:t>
            </a:r>
            <a:r>
              <a:rPr b="0" lang="fa-IR" sz="2800" spc="-1" strike="noStrike">
                <a:solidFill>
                  <a:srgbClr val="ff0000"/>
                </a:solidFill>
                <a:latin typeface="Gill Sans MT"/>
                <a:ea typeface="2  Koodak"/>
              </a:rPr>
              <a:t>)سوالاتی که ایجاب می کند دانش آموز برای پاسخ به آنها مفروضات داده شده را تجزیه و تحلیل نماید</a:t>
            </a:r>
            <a:r>
              <a:rPr b="0" lang="en-US" sz="2800" spc="-1" strike="noStrike">
                <a:solidFill>
                  <a:srgbClr val="ff0000"/>
                </a:solidFill>
                <a:latin typeface="Gill Sans MT"/>
                <a:ea typeface="2  Koodak"/>
              </a:rPr>
              <a:t>.</a:t>
            </a:r>
            <a:br>
              <a:rPr sz="2800"/>
            </a:br>
            <a:r>
              <a:rPr b="0" lang="fa-IR" sz="2800" spc="-1" strike="noStrike">
                <a:solidFill>
                  <a:srgbClr val="000000"/>
                </a:solidFill>
                <a:latin typeface="Gill Sans MT"/>
                <a:cs typeface="2  Koodak"/>
              </a:rPr>
              <a:t>مثال: چه عاملی انگیزه یا سائق تشنگی را ایجاد می کند؟ و نیز به نظر شما در افراد دارای گروه خونی </a:t>
            </a:r>
            <a:r>
              <a:rPr b="0" lang="en-US" sz="2800" spc="-1" strike="noStrike">
                <a:solidFill>
                  <a:srgbClr val="000000"/>
                </a:solidFill>
                <a:latin typeface="Gill Sans MT"/>
                <a:ea typeface="2  Koodak"/>
              </a:rPr>
              <a:t>AB</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نیروی ژن</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A</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بیشتر است یا نیروی ژن</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B</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 چرا؟</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1066320" y="228240"/>
            <a:ext cx="7867800" cy="66294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a:t>
            </a:r>
            <a:r>
              <a:rPr b="0" lang="en-US" sz="2800" spc="-1" strike="noStrike">
                <a:solidFill>
                  <a:srgbClr val="ff0000"/>
                </a:solidFill>
                <a:latin typeface="Gill Sans MT"/>
              </a:rPr>
              <a:t>f</a:t>
            </a:r>
            <a:r>
              <a:rPr b="0" lang="en-US" sz="2800" spc="-1" strike="noStrike">
                <a:solidFill>
                  <a:srgbClr val="ff0000"/>
                </a:solidFill>
                <a:latin typeface="Gill Sans MT"/>
                <a:ea typeface="2  Koodak"/>
              </a:rPr>
              <a:t> </a:t>
            </a:r>
            <a:r>
              <a:rPr b="0" lang="fa-IR" sz="2800" spc="-1" strike="noStrike">
                <a:solidFill>
                  <a:srgbClr val="ff0000"/>
                </a:solidFill>
                <a:latin typeface="Gill Sans MT"/>
                <a:cs typeface="2  Koodak"/>
              </a:rPr>
              <a:t>از دانش آموز خواسته شده که نتایجی را که خود او بدست آورده بیان نماید</a:t>
            </a:r>
            <a:r>
              <a:rPr b="0" lang="en-US" sz="2800" spc="-1" strike="noStrike">
                <a:solidFill>
                  <a:srgbClr val="ff0000"/>
                </a:solidFill>
                <a:latin typeface="Gill Sans MT"/>
                <a:ea typeface="2  Koodak"/>
              </a:rPr>
              <a:t>. </a:t>
            </a:r>
            <a:br>
              <a:rPr sz="2800"/>
            </a:br>
            <a:r>
              <a:rPr b="0" lang="en-US" sz="2800" spc="-1" strike="noStrike">
                <a:solidFill>
                  <a:srgbClr val="000000"/>
                </a:solidFill>
                <a:latin typeface="Gill Sans MT"/>
                <a:ea typeface="2  Koodak"/>
              </a:rPr>
              <a:t>(</a:t>
            </a:r>
            <a:r>
              <a:rPr b="0" lang="en-US" sz="2800" spc="-1" strike="noStrike">
                <a:solidFill>
                  <a:srgbClr val="ff0000"/>
                </a:solidFill>
                <a:latin typeface="Gill Sans MT"/>
                <a:ea typeface="2  Koodak"/>
              </a:rPr>
              <a:t>g</a:t>
            </a:r>
            <a:r>
              <a:rPr b="0" lang="en-US" sz="2800" spc="-1" strike="noStrike">
                <a:solidFill>
                  <a:srgbClr val="ff0000"/>
                </a:solidFill>
                <a:latin typeface="Gill Sans MT"/>
                <a:ea typeface="2  Koodak"/>
              </a:rPr>
              <a:t> </a:t>
            </a:r>
            <a:r>
              <a:rPr b="0" lang="fa-IR" sz="2800" spc="-1" strike="noStrike">
                <a:solidFill>
                  <a:srgbClr val="ff0000"/>
                </a:solidFill>
                <a:latin typeface="Gill Sans MT"/>
                <a:cs typeface="2  Koodak"/>
              </a:rPr>
              <a:t>از دانش آموز خواسته شده که آزمایشی را انجام داده و نتایج حاصل از آن را تحلیل نماید و یا اینکه مسائل عنوان شده را حل کند</a:t>
            </a:r>
            <a:r>
              <a:rPr b="0" lang="en-US" sz="2800" spc="-1" strike="noStrike">
                <a:solidFill>
                  <a:srgbClr val="ff0000"/>
                </a:solidFill>
                <a:latin typeface="Gill Sans MT"/>
                <a:ea typeface="2  Koodak"/>
              </a:rPr>
              <a:t> . </a:t>
            </a:r>
            <a:br>
              <a:rPr sz="2800"/>
            </a:br>
            <a:r>
              <a:rPr b="0" lang="fa-IR" sz="2800" spc="-1" strike="noStrike">
                <a:solidFill>
                  <a:srgbClr val="000000"/>
                </a:solidFill>
                <a:latin typeface="Gill Sans MT"/>
                <a:cs typeface="2  Koodak"/>
              </a:rPr>
              <a:t>مثال</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آزمایش </a:t>
            </a:r>
            <a:r>
              <a:rPr b="0" lang="fa-IR" sz="2800" spc="-1" strike="noStrike">
                <a:solidFill>
                  <a:srgbClr val="000000"/>
                </a:solidFill>
                <a:latin typeface="Gill Sans MT"/>
                <a:ea typeface="2  Koodak"/>
              </a:rPr>
              <a:t>4</a:t>
            </a:r>
            <a:r>
              <a:rPr b="0" lang="fa-IR" sz="2800" spc="-1" strike="noStrike">
                <a:solidFill>
                  <a:srgbClr val="000000"/>
                </a:solidFill>
                <a:latin typeface="Gill Sans MT"/>
                <a:ea typeface="2  Koodak"/>
              </a:rPr>
              <a:t> را انجام دهید تا دریابید که چگونه با مواد حل نشدنی در آب می توان یک محلول ساخت</a:t>
            </a:r>
            <a:br>
              <a:rPr sz="2800"/>
            </a:br>
            <a:r>
              <a:rPr b="0" lang="en-US" sz="2800" spc="-1" strike="noStrike">
                <a:solidFill>
                  <a:srgbClr val="ff0000"/>
                </a:solidFill>
                <a:latin typeface="Gill Sans MT"/>
                <a:ea typeface="2  Koodak"/>
              </a:rPr>
              <a:t>h</a:t>
            </a:r>
            <a:r>
              <a:rPr b="0" lang="en-US" sz="2800" spc="-1" strike="noStrike">
                <a:solidFill>
                  <a:srgbClr val="ff0000"/>
                </a:solidFill>
                <a:latin typeface="Gill Sans MT"/>
                <a:ea typeface="2  Koodak"/>
              </a:rPr>
              <a:t> </a:t>
            </a:r>
            <a:r>
              <a:rPr b="0" lang="fa-IR" sz="2800" spc="-1" strike="noStrike">
                <a:solidFill>
                  <a:srgbClr val="ff0000"/>
                </a:solidFill>
                <a:latin typeface="Gill Sans MT"/>
                <a:ea typeface="2  Koodak"/>
              </a:rPr>
              <a:t>)سوالاتی که به منظور جلب توجه دانش آموز ارائه شده و جواب آنها بلافاصله بوسیله نویسنده کتاب در متن نیامده است</a:t>
            </a:r>
            <a:r>
              <a:rPr b="0" lang="en-US" sz="2800" spc="-1" strike="noStrike">
                <a:solidFill>
                  <a:srgbClr val="ff0000"/>
                </a:solidFill>
                <a:latin typeface="Gill Sans MT"/>
                <a:ea typeface="2  Koodak"/>
              </a:rPr>
              <a:t>.</a:t>
            </a:r>
            <a:br>
              <a:rPr sz="2800"/>
            </a:br>
            <a:r>
              <a:rPr b="0" lang="fa-IR" sz="2800" spc="-1" strike="noStrike">
                <a:solidFill>
                  <a:srgbClr val="000000"/>
                </a:solidFill>
                <a:latin typeface="Gill Sans MT"/>
                <a:cs typeface="2  Koodak"/>
              </a:rPr>
              <a:t>مثال: چون هورمونها به همراه خون منتقل می شوند، قاعدتا باید انتظار داشت که به همه جای بدن برسند، در این صورت، چگونه هدف خود را شناسایی می کنند؟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914400" y="1447560"/>
            <a:ext cx="802008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2  Koodak"/>
              </a:rPr>
              <a:t>(</a:t>
            </a:r>
            <a:r>
              <a:rPr b="0" lang="en-US" sz="3200" spc="-1" strike="noStrike">
                <a:solidFill>
                  <a:srgbClr val="ff0000"/>
                </a:solidFill>
                <a:latin typeface="Gill Sans MT"/>
                <a:ea typeface="2  Koodak"/>
              </a:rPr>
              <a:t>i</a:t>
            </a:r>
            <a:r>
              <a:rPr b="0" lang="en-US" sz="3200" spc="-1" strike="noStrike">
                <a:solidFill>
                  <a:srgbClr val="ff0000"/>
                </a:solidFill>
                <a:latin typeface="Gill Sans MT"/>
                <a:ea typeface="2  Koodak"/>
              </a:rPr>
              <a:t> </a:t>
            </a:r>
            <a:r>
              <a:rPr b="0" lang="fa-IR" sz="3200" spc="-1" strike="noStrike">
                <a:solidFill>
                  <a:srgbClr val="ff0000"/>
                </a:solidFill>
                <a:latin typeface="Gill Sans MT"/>
                <a:cs typeface="2  Koodak"/>
              </a:rPr>
              <a:t>از دانش آموز خواسته شده است که تصاویر یا مراحل انجام یک آزمایش را مورد ملاحظه قرار دهدو بطور کلی جملاتی که در هیچکدام از مقوله های فوق نگنجد در این مقوله جای می گیرد</a:t>
            </a:r>
            <a:r>
              <a:rPr b="0" lang="en-US" sz="3200" spc="-1" strike="noStrike">
                <a:solidFill>
                  <a:srgbClr val="ff0000"/>
                </a:solidFill>
                <a:latin typeface="Gill Sans MT"/>
                <a:ea typeface="2  Koodak"/>
              </a:rPr>
              <a:t>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Gill Sans MT"/>
                <a:ea typeface="2  Koodak"/>
              </a:rPr>
              <a:t>j</a:t>
            </a:r>
            <a:r>
              <a:rPr b="0" lang="en-US" sz="3200" spc="-1" strike="noStrike">
                <a:solidFill>
                  <a:srgbClr val="000000"/>
                </a:solidFill>
                <a:latin typeface="Gill Sans MT"/>
                <a:ea typeface="2  Koodak"/>
              </a:rPr>
              <a:t> </a:t>
            </a:r>
            <a:r>
              <a:rPr b="0" lang="fa-IR" sz="3200" spc="-1" strike="noStrike">
                <a:solidFill>
                  <a:srgbClr val="ff0000"/>
                </a:solidFill>
                <a:latin typeface="Gill Sans MT"/>
                <a:ea typeface="2  Koodak"/>
              </a:rPr>
              <a:t>)سوالت مربوط به معانی بیا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1066680" y="228600"/>
            <a:ext cx="7848720" cy="6400800"/>
          </a:xfrm>
          <a:prstGeom prst="rect">
            <a:avLst/>
          </a:prstGeom>
          <a:noFill/>
          <a:ln w="0">
            <a:noFill/>
          </a:ln>
        </p:spPr>
        <p:txBody>
          <a:bodyPr anchor="t">
            <a:normAutofit fontScale="95000"/>
          </a:bodyPr>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از مقوله های ده گانه فوق، مقوله های</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a</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b</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c</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d</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جزء مقوله های غیر فعال به حساب می آیند و مقوله های</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e</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f</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g</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h</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جزء مقوله های فعال قلمداد می گردند. </a:t>
            </a:r>
            <a:endParaRPr b="0" lang="en-US" sz="2800" spc="-1" strike="noStrike">
              <a:solidFill>
                <a:srgbClr val="000000"/>
              </a:solidFill>
              <a:latin typeface="Gill Sans MT"/>
            </a:endParaRPr>
          </a:p>
          <a:p>
            <a:pPr marL="346680" indent="-2682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دو مقوله آخر یعنی</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i</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و</a:t>
            </a:r>
            <a:r>
              <a:rPr b="0" lang="en-US" sz="2800" spc="-1" strike="noStrike">
                <a:solidFill>
                  <a:srgbClr val="000000"/>
                </a:solidFill>
                <a:latin typeface="Gill Sans MT"/>
                <a:ea typeface="2  Koodak"/>
              </a:rPr>
              <a:t> </a:t>
            </a:r>
            <a:r>
              <a:rPr b="0" lang="en-US" sz="2800" spc="-1" strike="noStrike">
                <a:solidFill>
                  <a:srgbClr val="000000"/>
                </a:solidFill>
                <a:latin typeface="Gill Sans MT"/>
                <a:ea typeface="2  Koodak"/>
              </a:rPr>
              <a:t>j</a:t>
            </a:r>
            <a:r>
              <a:rPr b="0" lang="en-US" sz="2800" spc="-1" strike="noStrike">
                <a:solidFill>
                  <a:srgbClr val="000000"/>
                </a:solidFill>
                <a:latin typeface="Gill Sans MT"/>
                <a:ea typeface="2  Koodak"/>
              </a:rPr>
              <a:t> </a:t>
            </a:r>
            <a:r>
              <a:rPr b="0" lang="fa-IR" sz="2800" spc="-1" strike="noStrike">
                <a:solidFill>
                  <a:srgbClr val="000000"/>
                </a:solidFill>
                <a:latin typeface="Gill Sans MT"/>
                <a:cs typeface="2  Koodak"/>
              </a:rPr>
              <a:t>از مقوله های خنثی هستند که نقش مهمی در ارزیابی کتاب ندارند و بنابراین می توان از آنها در امر ارزشیابی و تحلیل، چشم پوشید و صرفنظر کرد. به منظور محاسبه ضریب درگیری دانش آموز با متن و یا به منظور سنجش سطح فعالیت فراگیر می توان مجموع مقوله های فعال را بر مجموع مقوله های غیر فعال تقسیم نمود</a:t>
            </a:r>
            <a:r>
              <a:rPr b="0" lang="en-US" sz="2800" spc="-1" strike="noStrike">
                <a:solidFill>
                  <a:srgbClr val="000000"/>
                </a:solidFill>
                <a:latin typeface="Gill Sans MT"/>
                <a:ea typeface="2  Koodak"/>
              </a:rPr>
              <a:t>: </a:t>
            </a:r>
            <a:endParaRPr b="0" lang="en-US" sz="2800" spc="-1" strike="noStrike">
              <a:solidFill>
                <a:srgbClr val="000000"/>
              </a:solidFill>
              <a:latin typeface="Gill Sans MT"/>
            </a:endParaRPr>
          </a:p>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ff0000"/>
                </a:solidFill>
                <a:latin typeface="Gill Sans MT"/>
                <a:cs typeface="2  Koodak"/>
              </a:rPr>
              <a:t>ضریب درگیری دانش آموز با متن= مجموع مقوله های فعال تقسیم برمجموع مقوله های غیر فعال</a:t>
            </a:r>
            <a:br>
              <a:rPr sz="2800"/>
            </a:br>
            <a:r>
              <a:rPr b="0" lang="en-US" sz="2800" spc="-1" strike="noStrike">
                <a:solidFill>
                  <a:srgbClr val="ff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فصل اول:کلیاتی در مورد کتاب درسی</a:t>
            </a:r>
            <a:endParaRPr b="0" lang="en-US" sz="4300" spc="-1" strike="noStrike">
              <a:solidFill>
                <a:srgbClr val="572314"/>
              </a:solidFill>
              <a:latin typeface="Gill Sans MT"/>
            </a:endParaRPr>
          </a:p>
        </p:txBody>
      </p:sp>
      <p:sp>
        <p:nvSpPr>
          <p:cNvPr id="569" name=""/>
          <p:cNvSpPr txBox="1"/>
          <p:nvPr/>
        </p:nvSpPr>
        <p:spPr>
          <a:xfrm>
            <a:off x="838080" y="1218960"/>
            <a:ext cx="8096400" cy="56386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جایگاه کتاب درسی:</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ea typeface="2  Traffic"/>
              </a:rPr>
              <a:t>1</a:t>
            </a:r>
            <a:r>
              <a:rPr b="0" lang="fa-IR" sz="3200" spc="-1" strike="noStrike">
                <a:solidFill>
                  <a:srgbClr val="ff0000"/>
                </a:solidFill>
                <a:latin typeface="Gill Sans MT"/>
                <a:ea typeface="2  Traffic"/>
              </a:rPr>
              <a:t>-مهمترین ابزار یادگیری است</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ea typeface="2  Traffic"/>
              </a:rPr>
              <a:t>2</a:t>
            </a:r>
            <a:r>
              <a:rPr b="0" lang="fa-IR" sz="3200" spc="-1" strike="noStrike">
                <a:solidFill>
                  <a:srgbClr val="ff0000"/>
                </a:solidFill>
                <a:latin typeface="Gill Sans MT"/>
                <a:ea typeface="2  Traffic"/>
              </a:rPr>
              <a:t>- نقش محوری را در فرایند یاددهی –یادگیری به عهده دارد</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تعریف (ازنظر یونسکو):</a:t>
            </a:r>
            <a:endParaRPr b="0" lang="en-US" sz="32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کتاب درسی وسیله ی اصلی یادگیری است که برای دستیابی به مجموعه خاصی از نتایج آموزشی طراحی شده است و از متن ،تصویر، متن و تصویرتشکیل شده است،وبطور سنتی مجموعه ای چاپی و مجلدی است که آسان سازی و توالی یادگیری را هدایت و راهنمایی می کند.</a:t>
            </a: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just"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761760" y="228240"/>
            <a:ext cx="8172360" cy="6629400"/>
          </a:xfrm>
          <a:prstGeom prst="rect">
            <a:avLst/>
          </a:prstGeom>
          <a:noFill/>
          <a:ln w="0">
            <a:noFill/>
          </a:ln>
        </p:spPr>
        <p:txBody>
          <a:bodyPr anchor="t">
            <a:normAutofit fontScale="91000"/>
          </a:bodyPr>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Gill Sans MT"/>
                <a:cs typeface="2  Koodak"/>
              </a:rPr>
              <a:t>ضریب درگیری دانش آموز با محتوا عددی است که نشان دهنده میزان فعال بودن محتوا است</a:t>
            </a:r>
            <a:r>
              <a:rPr b="0" lang="en-US" sz="3000" spc="-1" strike="noStrike">
                <a:solidFill>
                  <a:srgbClr val="000000"/>
                </a:solidFill>
                <a:latin typeface="Gill Sans MT"/>
                <a:ea typeface="2  Koodak"/>
              </a:rPr>
              <a:t>. </a:t>
            </a:r>
            <a:r>
              <a:rPr b="0" lang="fa-IR" sz="3000" spc="-1" strike="noStrike">
                <a:solidFill>
                  <a:srgbClr val="000000"/>
                </a:solidFill>
                <a:latin typeface="Gill Sans MT"/>
                <a:cs typeface="2  Koodak"/>
              </a:rPr>
              <a:t>دامنه این عدد بدست آمده ممکن است از صفر تا بی نهایت باشد، اما به نظر ویلیام رومی زمانی یک کتاب درسی، فعال است که ضریب درگیری </a:t>
            </a:r>
            <a:r>
              <a:rPr b="0" lang="fa-IR" sz="3000" spc="-1" strike="noStrike">
                <a:solidFill>
                  <a:srgbClr val="ff0000"/>
                </a:solidFill>
                <a:latin typeface="Gill Sans MT"/>
                <a:cs typeface="2  Koodak"/>
              </a:rPr>
              <a:t>شاخص درگیری</a:t>
            </a:r>
            <a:endParaRPr b="0" lang="en-US" sz="30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Gill Sans MT"/>
                <a:cs typeface="2  Koodak"/>
              </a:rPr>
              <a:t>آن بین </a:t>
            </a:r>
            <a:r>
              <a:rPr b="0" lang="fa-IR" sz="3000" spc="-1" strike="noStrike">
                <a:solidFill>
                  <a:srgbClr val="ff0000"/>
                </a:solidFill>
                <a:latin typeface="Gill Sans MT"/>
                <a:ea typeface="2  Koodak"/>
              </a:rPr>
              <a:t>0/4</a:t>
            </a:r>
            <a:r>
              <a:rPr b="0" lang="fa-IR" sz="3000" spc="-1" strike="noStrike">
                <a:solidFill>
                  <a:srgbClr val="ff0000"/>
                </a:solidFill>
                <a:latin typeface="Gill Sans MT"/>
                <a:ea typeface="2  Koodak"/>
              </a:rPr>
              <a:t> تا</a:t>
            </a:r>
            <a:r>
              <a:rPr b="0" lang="fa-IR" sz="3000" spc="-1" strike="noStrike">
                <a:solidFill>
                  <a:srgbClr val="ff0000"/>
                </a:solidFill>
                <a:latin typeface="Gill Sans MT"/>
                <a:ea typeface="2  Koodak"/>
              </a:rPr>
              <a:t>1/5</a:t>
            </a:r>
            <a:r>
              <a:rPr b="0" lang="fa-IR" sz="3000" spc="-1" strike="noStrike">
                <a:solidFill>
                  <a:srgbClr val="ff0000"/>
                </a:solidFill>
                <a:latin typeface="Gill Sans MT"/>
                <a:ea typeface="2  Koodak"/>
              </a:rPr>
              <a:t> باشد: </a:t>
            </a:r>
            <a:r>
              <a:rPr b="0" lang="fa-IR" sz="3000" spc="-1" strike="noStrike">
                <a:solidFill>
                  <a:srgbClr val="ff0000"/>
                </a:solidFill>
                <a:latin typeface="Gill Sans MT"/>
                <a:ea typeface="2  Koodak"/>
              </a:rPr>
              <a:t>0/4</a:t>
            </a:r>
            <a:r>
              <a:rPr b="0" lang="fa-IR" sz="3000" spc="-1" strike="noStrike">
                <a:solidFill>
                  <a:srgbClr val="ff0000"/>
                </a:solidFill>
                <a:latin typeface="Gill Sans MT"/>
                <a:ea typeface="2  Koodak"/>
              </a:rPr>
              <a:t> ‹ ضریب درگیری ‹ </a:t>
            </a:r>
            <a:r>
              <a:rPr b="0" lang="fa-IR" sz="3000" spc="-1" strike="noStrike">
                <a:solidFill>
                  <a:srgbClr val="ff0000"/>
                </a:solidFill>
                <a:latin typeface="Gill Sans MT"/>
                <a:ea typeface="2  Koodak"/>
              </a:rPr>
              <a:t>1/5</a:t>
            </a:r>
            <a:r>
              <a:rPr b="0" lang="en-US" sz="3000" spc="-1" strike="noStrike">
                <a:solidFill>
                  <a:srgbClr val="ff0000"/>
                </a:solidFill>
                <a:latin typeface="Gill Sans MT"/>
                <a:ea typeface="2  Koodak"/>
              </a:rPr>
              <a:t>. </a:t>
            </a:r>
            <a:br>
              <a:rPr sz="3000"/>
            </a:br>
            <a:r>
              <a:rPr b="0" lang="fa-IR" sz="3000" spc="-1" strike="noStrike">
                <a:solidFill>
                  <a:srgbClr val="000000"/>
                </a:solidFill>
                <a:latin typeface="Gill Sans MT"/>
                <a:cs typeface="2  Koodak"/>
              </a:rPr>
              <a:t>ضریب درگیری کمتر از </a:t>
            </a:r>
            <a:r>
              <a:rPr b="0" lang="fa-IR" sz="3000" spc="-1" strike="noStrike">
                <a:solidFill>
                  <a:srgbClr val="000000"/>
                </a:solidFill>
                <a:latin typeface="Gill Sans MT"/>
                <a:ea typeface="2  Koodak"/>
              </a:rPr>
              <a:t>0/4</a:t>
            </a:r>
            <a:r>
              <a:rPr b="0" lang="fa-IR" sz="3000" spc="-1" strike="noStrike">
                <a:solidFill>
                  <a:srgbClr val="000000"/>
                </a:solidFill>
                <a:latin typeface="Gill Sans MT"/>
                <a:ea typeface="2  Koodak"/>
              </a:rPr>
              <a:t> بیانگر این است که </a:t>
            </a:r>
            <a:r>
              <a:rPr b="0" lang="fa-IR" sz="3000" spc="-1" strike="noStrike">
                <a:solidFill>
                  <a:srgbClr val="ff0000"/>
                </a:solidFill>
                <a:latin typeface="Gill Sans MT"/>
                <a:cs typeface="2  Koodak"/>
              </a:rPr>
              <a:t>کتاب فقط به ارائه اطلاعات علمی می پردازد و از فراگیران می خواهد تا در پی حفظ کردن مطالب علمی ارائه شده باشند. چنین کتابی در زمره کتاب های غیر پژوهشی به حساب می آید که در آن دانش آموز هیچگونه نقش فعالی را در امر یادگیری به عهده ندارد و به او و به ذهن او به عنوان یک سیستم بانکی نگریسته می شود که همیشه در پی حفظ و نگهداری و بایگانی مطالب است</a:t>
            </a:r>
            <a:r>
              <a:rPr b="0" lang="en-US" sz="3000" spc="-1" strike="noStrike">
                <a:solidFill>
                  <a:srgbClr val="ff0000"/>
                </a:solidFill>
                <a:latin typeface="Gill Sans MT"/>
                <a:ea typeface="2  Koodak"/>
              </a:rPr>
              <a:t>.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761760" y="228600"/>
            <a:ext cx="8172360" cy="6324480"/>
          </a:xfrm>
          <a:prstGeom prst="rect">
            <a:avLst/>
          </a:prstGeom>
          <a:noFill/>
          <a:ln w="0">
            <a:noFill/>
          </a:ln>
        </p:spPr>
        <p:txBody>
          <a:bodyPr anchor="t">
            <a:normAutofit fontScale="90000"/>
          </a:bodyPr>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Koodak"/>
              </a:rPr>
              <a:t>از طرف دیگر ضریب درگیری بزرگتر از </a:t>
            </a:r>
            <a:r>
              <a:rPr b="0" lang="fa-IR" sz="2800" spc="-1" strike="noStrike">
                <a:solidFill>
                  <a:srgbClr val="ff0000"/>
                </a:solidFill>
                <a:latin typeface="Gill Sans MT"/>
                <a:ea typeface="2  Koodak"/>
              </a:rPr>
              <a:t>1/5</a:t>
            </a:r>
            <a:r>
              <a:rPr b="0" lang="fa-IR" sz="2800" spc="-1" strike="noStrike">
                <a:solidFill>
                  <a:srgbClr val="ff0000"/>
                </a:solidFill>
                <a:latin typeface="Gill Sans MT"/>
                <a:cs typeface="2  Koodak"/>
              </a:rPr>
              <a:t>نمایانگر کتابی است که در مورد هر جمله، تصویر، یا سوال آن، از دانش آموز می خواهد تا به نوعی تجزیه و تحلیل انجام دهد و به فعالیت بپردازد. چنین کتاب هایی مفروضات و اطلاعات علمی کافی را در اختیار فراگیران قرار نمی دهد</a:t>
            </a:r>
            <a:r>
              <a:rPr b="0" lang="fa-IR" sz="2800" spc="-1" strike="noStrike">
                <a:solidFill>
                  <a:srgbClr val="000000"/>
                </a:solidFill>
                <a:latin typeface="Gill Sans MT"/>
                <a:ea typeface="2  Koodak"/>
              </a:rPr>
              <a:t> و فقط از دانش آموزان می خواهند تا به گونه ای، فعالیتی را انجام دهند. از نظر ویلیام رومی این کتاب ها نیز به صورت غیر فعال ارائه شده است. زیرا فعالیت زیادی می طلبد در حالی که به اطلاعات کافی و شرایط فراگیر توجه نمی شود . </a:t>
            </a:r>
            <a:r>
              <a:rPr b="0" lang="fa-IR" sz="2800" spc="-1" strike="noStrike">
                <a:solidFill>
                  <a:srgbClr val="ff0000"/>
                </a:solidFill>
                <a:latin typeface="Gill Sans MT"/>
                <a:cs typeface="2  Koodak"/>
              </a:rPr>
              <a:t>بنابراین به عقیده ویلیام رومی کتابی مناسب است و به صورت فعال ارائه شده است که شاخص درگیری دانش آموز با محتوای آن کتاب بزرگتر از </a:t>
            </a:r>
            <a:r>
              <a:rPr b="0" lang="fa-IR" sz="2800" spc="-1" strike="noStrike">
                <a:solidFill>
                  <a:srgbClr val="ff0000"/>
                </a:solidFill>
                <a:latin typeface="Gill Sans MT"/>
                <a:ea typeface="2  Koodak"/>
              </a:rPr>
              <a:t>4/0</a:t>
            </a:r>
            <a:r>
              <a:rPr b="0" lang="fa-IR" sz="2800" spc="-1" strike="noStrike">
                <a:solidFill>
                  <a:srgbClr val="ff0000"/>
                </a:solidFill>
                <a:latin typeface="Gill Sans MT"/>
                <a:ea typeface="2  Koodak"/>
              </a:rPr>
              <a:t> و کوچکتر از </a:t>
            </a:r>
            <a:r>
              <a:rPr b="0" lang="fa-IR" sz="2800" spc="-1" strike="noStrike">
                <a:solidFill>
                  <a:srgbClr val="ff0000"/>
                </a:solidFill>
                <a:latin typeface="Gill Sans MT"/>
                <a:ea typeface="2  Koodak"/>
              </a:rPr>
              <a:t>5/1</a:t>
            </a:r>
            <a:r>
              <a:rPr b="0" lang="fa-IR" sz="2800" spc="-1" strike="noStrike">
                <a:solidFill>
                  <a:srgbClr val="ff0000"/>
                </a:solidFill>
                <a:latin typeface="Gill Sans MT"/>
                <a:ea typeface="2  Koodak"/>
              </a:rPr>
              <a:t> باشد. به عبارت دیگر هر کتاب که به صورت فعال ارائه می شود باید حداقل </a:t>
            </a:r>
            <a:r>
              <a:rPr b="0" lang="fa-IR" sz="2800" spc="-1" strike="noStrike">
                <a:solidFill>
                  <a:srgbClr val="ff0000"/>
                </a:solidFill>
                <a:latin typeface="Gill Sans MT"/>
                <a:ea typeface="2  Koodak"/>
              </a:rPr>
              <a:t>30</a:t>
            </a:r>
            <a:r>
              <a:rPr b="0" lang="fa-IR" sz="2800" spc="-1" strike="noStrike">
                <a:solidFill>
                  <a:srgbClr val="ff0000"/>
                </a:solidFill>
                <a:latin typeface="Gill Sans MT"/>
                <a:ea typeface="2  Koodak"/>
              </a:rPr>
              <a:t>% و حداکثر </a:t>
            </a:r>
            <a:r>
              <a:rPr b="0" lang="fa-IR" sz="2800" spc="-1" strike="noStrike">
                <a:solidFill>
                  <a:srgbClr val="ff0000"/>
                </a:solidFill>
                <a:latin typeface="Gill Sans MT"/>
                <a:ea typeface="2  Koodak"/>
              </a:rPr>
              <a:t>70</a:t>
            </a:r>
            <a:r>
              <a:rPr b="0" lang="fa-IR" sz="2800" spc="-1" strike="noStrike">
                <a:solidFill>
                  <a:srgbClr val="ff0000"/>
                </a:solidFill>
                <a:latin typeface="Gill Sans MT"/>
                <a:ea typeface="2  Koodak"/>
              </a:rPr>
              <a:t>% مطالب و موضوعات علمی را ارائه دهد، در غیر اینصورت محتوای کتاب غیر فعال خواهد بود</a:t>
            </a:r>
            <a:r>
              <a:rPr b="0" lang="en-US" sz="2800" spc="-1" strike="noStrike">
                <a:solidFill>
                  <a:srgbClr val="ff0000"/>
                </a:solidFill>
                <a:latin typeface="Gill Sans MT"/>
                <a:ea typeface="2  Koodak"/>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300" spc="-1" strike="noStrike">
              <a:solidFill>
                <a:srgbClr val="572314"/>
              </a:solidFill>
              <a:latin typeface="Gill Sans MT"/>
              <a:ea typeface="Majalla UI"/>
            </a:endParaRPr>
          </a:p>
        </p:txBody>
      </p:sp>
      <p:pic>
        <p:nvPicPr>
          <p:cNvPr id="616" name="Content Placeholder 3" descr="01452336.jpg"/>
          <p:cNvPicPr/>
          <p:nvPr/>
        </p:nvPicPr>
        <p:blipFill>
          <a:blip r:embed="rId1"/>
          <a:stretch/>
        </p:blipFill>
        <p:spPr>
          <a:xfrm>
            <a:off x="1066680" y="304920"/>
            <a:ext cx="7867800" cy="655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Content Placeholder 3" descr="0125899.jpg"/>
          <p:cNvPicPr/>
          <p:nvPr/>
        </p:nvPicPr>
        <p:blipFill>
          <a:blip r:embed="rId1"/>
          <a:stretch/>
        </p:blipFill>
        <p:spPr>
          <a:xfrm>
            <a:off x="1447920" y="533520"/>
            <a:ext cx="7159680" cy="550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Majalla UI"/>
              </a:rPr>
              <a:t>کار عملی</a:t>
            </a:r>
            <a:endParaRPr b="0" lang="en-US" sz="43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Gill Sans MT"/>
                <a:cs typeface="2  Titr"/>
              </a:rPr>
              <a:t>تحلیل یک فصل از کتاب انتخابی خود را با توجه به روش ویلیام رومی</a:t>
            </a:r>
            <a:endParaRPr b="0" lang="en-US" sz="4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Gill Sans MT"/>
                <a:cs typeface="2  Titr"/>
              </a:rPr>
              <a:t>فعالیت های صفحه </a:t>
            </a:r>
            <a:r>
              <a:rPr b="0" lang="fa-IR" sz="4800" spc="-1" strike="noStrike">
                <a:solidFill>
                  <a:srgbClr val="000000"/>
                </a:solidFill>
                <a:latin typeface="Gill Sans MT"/>
                <a:ea typeface="2  Titr"/>
              </a:rPr>
              <a:t>37</a:t>
            </a:r>
            <a:r>
              <a:rPr b="0" lang="fa-IR" sz="4800" spc="-1" strike="noStrike">
                <a:solidFill>
                  <a:srgbClr val="000000"/>
                </a:solidFill>
                <a:latin typeface="Gill Sans MT"/>
                <a:ea typeface="2  Titr"/>
              </a:rPr>
              <a:t> کتاب درسی را بررسی کرده</a:t>
            </a:r>
            <a:endParaRPr b="0" lang="en-US" sz="4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Majalla UI"/>
              </a:rPr>
              <a:t>مطالعه فصل اول ،دوم وسوم</a:t>
            </a:r>
            <a:endParaRPr b="0" lang="en-US" sz="4300" spc="-1" strike="noStrike">
              <a:solidFill>
                <a:srgbClr val="572314"/>
              </a:solidFill>
              <a:latin typeface="Gill Sans MT"/>
            </a:endParaRPr>
          </a:p>
        </p:txBody>
      </p:sp>
      <p:sp>
        <p:nvSpPr>
          <p:cNvPr id="621" name=""/>
          <p:cNvSpPr txBox="1"/>
          <p:nvPr/>
        </p:nvSpPr>
        <p:spPr>
          <a:xfrm>
            <a:off x="1434960" y="3505320"/>
            <a:ext cx="7632720" cy="2743200"/>
          </a:xfrm>
          <a:prstGeom prst="rect">
            <a:avLst/>
          </a:prstGeom>
          <a:noFill/>
          <a:ln w="0">
            <a:noFill/>
          </a:ln>
        </p:spPr>
        <p:txBody>
          <a:bodyPr anchor="t">
            <a:normAutofit/>
          </a:bodyPr>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Majalla UI"/>
              </a:rPr>
              <a:t>امتحان سه فصل در اولین جلسه برگزاری کلاس</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74320"/>
            <a:ext cx="8325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572314"/>
                </a:solidFill>
                <a:latin typeface="Gill Sans MT"/>
                <a:cs typeface="2  Titr"/>
              </a:rPr>
              <a:t>آیا کتاب درسی به تنهایی می تواند باعث یادگیری شود؟یا به تنهایی کافی است؟</a:t>
            </a:r>
            <a:endParaRPr b="0" lang="en-US" sz="3600" spc="-1" strike="noStrike">
              <a:solidFill>
                <a:srgbClr val="572314"/>
              </a:solidFill>
              <a:latin typeface="Gill Sans MT"/>
            </a:endParaRPr>
          </a:p>
        </p:txBody>
      </p:sp>
      <p:sp>
        <p:nvSpPr>
          <p:cNvPr id="571" name=""/>
          <p:cNvSpPr txBox="1"/>
          <p:nvPr/>
        </p:nvSpPr>
        <p:spPr>
          <a:xfrm>
            <a:off x="761760" y="1447560"/>
            <a:ext cx="8172360" cy="5105160"/>
          </a:xfrm>
          <a:prstGeom prst="rect">
            <a:avLst/>
          </a:prstGeom>
          <a:noFill/>
          <a:ln w="0">
            <a:noFill/>
          </a:ln>
        </p:spPr>
        <p:txBody>
          <a:bodyPr anchor="t">
            <a:normAutofit fontScale="93000"/>
          </a:bodyPr>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البته که خیر</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ما در کنار کتاب درسی به مواد یادگیری نیاز داریم</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حالا تعریف مواد یادگیری چیست؟</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هر شکلی از رسانه است که یک طرح یادگیری را حمایت کرده و اغلب برای کمک به کتاب درسی مورد استفاده قرار می گیرد.</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برخی از این مواد یادگیری عبارتنداز:</a:t>
            </a:r>
            <a:endParaRPr b="0" lang="en-US" sz="3200" spc="-1" strike="noStrike">
              <a:solidFill>
                <a:srgbClr val="000000"/>
              </a:solidFill>
              <a:latin typeface="Gill Sans MT"/>
            </a:endParaRPr>
          </a:p>
          <a:p>
            <a:pPr marL="339480" indent="-2628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کتابهای کار،نمودارها،بازی های آموزشی،نوارهای صوتی و تصویری،پوسترها و متون کمکی برای خواند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572314"/>
                </a:solidFill>
                <a:latin typeface="Gill Sans MT"/>
                <a:cs typeface="2  Titr"/>
              </a:rPr>
              <a:t>نقش کتاب های درسی</a:t>
            </a:r>
            <a:endParaRPr b="0" lang="en-US" sz="4300" spc="-1" strike="noStrike">
              <a:solidFill>
                <a:srgbClr val="572314"/>
              </a:solidFill>
              <a:latin typeface="Gill Sans MT"/>
            </a:endParaRPr>
          </a:p>
        </p:txBody>
      </p:sp>
      <p:sp>
        <p:nvSpPr>
          <p:cNvPr id="573" name=""/>
          <p:cNvSpPr txBox="1"/>
          <p:nvPr/>
        </p:nvSpPr>
        <p:spPr>
          <a:xfrm>
            <a:off x="685440" y="1447560"/>
            <a:ext cx="8248680" cy="5105160"/>
          </a:xfrm>
          <a:prstGeom prst="rect">
            <a:avLst/>
          </a:prstGeom>
          <a:noFill/>
          <a:ln w="0">
            <a:noFill/>
          </a:ln>
        </p:spPr>
        <p:txBody>
          <a:bodyPr anchor="t">
            <a:normAutofit fontScale="84000"/>
          </a:bodyPr>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یا تمام برنامه درسی است یا قسمت اصلی برنامه است</a:t>
            </a:r>
            <a:endParaRPr b="0" lang="en-US" sz="32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Gill Sans MT"/>
                <a:cs typeface="2  Traffic"/>
              </a:rPr>
              <a:t>کتاب درسی تنها از نظر ابزاری مهم نیست بلکه کاربرد گسترده ی آن در مدارس دانش آموزان را در معرض عقاید ،ایده ها و افکار گوناگونی قرار می دهدنیز مهم است</a:t>
            </a:r>
            <a:endParaRPr b="0" lang="en-US" sz="32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کتاب درسی منابع موثق اطلاعات است برای شکل دهی هر نوع رفتار یا مهارت و نگرشی و یا در ارتقاءحقوق بشر و عدالت و..</a:t>
            </a:r>
            <a:endParaRPr b="0" lang="en-US" sz="28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یونسکو معتقد است:</a:t>
            </a:r>
            <a:endParaRPr b="0" lang="en-US" sz="2800" spc="-1" strike="noStrike">
              <a:solidFill>
                <a:srgbClr val="000000"/>
              </a:solidFill>
              <a:latin typeface="Gill Sans MT"/>
            </a:endParaRPr>
          </a:p>
          <a:p>
            <a:pPr marL="306360" indent="-2372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کتاب درسی و مواد  یادگیری قابلیت  انتقال دانش ،ایجاد مهارت  و شکل دهی به شیوه ی تعامل فراگیر با جهان را دارن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990720" y="228600"/>
            <a:ext cx="7943760" cy="6477120"/>
          </a:xfrm>
          <a:prstGeom prst="rect">
            <a:avLst/>
          </a:prstGeom>
          <a:noFill/>
          <a:ln w="0">
            <a:noFill/>
          </a:ln>
        </p:spPr>
        <p:txBody>
          <a:bodyPr anchor="t">
            <a:normAutofit fontScale="92000"/>
          </a:bodyPr>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تحقیقات گوناگون ناظر بر اهمیت کتابهای درسی است به طوری که در </a:t>
            </a:r>
            <a:r>
              <a:rPr b="0" lang="fa-IR" sz="3200" spc="-1" strike="noStrike">
                <a:solidFill>
                  <a:srgbClr val="ff0000"/>
                </a:solidFill>
                <a:latin typeface="Gill Sans MT"/>
                <a:cs typeface="2  Traffic"/>
              </a:rPr>
              <a:t>رابطه با کتابهای درسی اعقتاد بر آن است که محتوای آموزشی و پرورشی و روش تدریس را در هزاران کلاس تعیین می کند. چون بالغ بر  </a:t>
            </a:r>
            <a:r>
              <a:rPr b="0" lang="fa-IR" sz="3200" spc="-1" strike="noStrike">
                <a:solidFill>
                  <a:srgbClr val="ff0000"/>
                </a:solidFill>
                <a:latin typeface="Gill Sans MT"/>
                <a:ea typeface="2  Traffic"/>
              </a:rPr>
              <a:t>50</a:t>
            </a:r>
            <a:r>
              <a:rPr b="0" lang="fa-IR" sz="3200" spc="-1" strike="noStrike">
                <a:solidFill>
                  <a:srgbClr val="ff0000"/>
                </a:solidFill>
                <a:latin typeface="Gill Sans MT"/>
                <a:cs typeface="2  Traffic"/>
              </a:rPr>
              <a:t>درصد از زمان تدریس معلمان کلاسهای سراسر جهان مبتنی بر کتاب درسی است.</a:t>
            </a:r>
            <a:endParaRPr b="0" lang="en-US" sz="32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ill Sans MT"/>
                <a:cs typeface="2  Traffic"/>
              </a:rPr>
              <a:t>یو نسکو خود به منظور ارتقاء صلح و دوستی از طریق درک متقابل به اصلاح کتابهای تاریخ و جغرافیا و حتی به تالیف راهبردهای جامع برای کتابهای درسی و مواد یادگیری بر آمده است.</a:t>
            </a:r>
            <a:endParaRPr b="0" lang="en-US" sz="32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حال معلمان بیشترین وقت کلاسش را به کار با کتاب درسی اختصاص می دهد ولی به ندرت اقدام به تجزیه و تحلیل مواد درسی  می نماید در حالیکه ضروری است.</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274320"/>
            <a:ext cx="8020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572314"/>
                </a:solidFill>
                <a:latin typeface="Gill Sans MT"/>
                <a:cs typeface="2  Titr"/>
              </a:rPr>
              <a:t>چرا معلمان در کلاس های خود اقدام به جزوه نویسی می کنند؟</a:t>
            </a:r>
            <a:endParaRPr b="0" lang="en-US" sz="3200" spc="-1" strike="noStrike">
              <a:solidFill>
                <a:srgbClr val="572314"/>
              </a:solidFill>
              <a:latin typeface="Gill Sans MT"/>
            </a:endParaRPr>
          </a:p>
        </p:txBody>
      </p:sp>
      <p:sp>
        <p:nvSpPr>
          <p:cNvPr id="576" name=""/>
          <p:cNvSpPr txBox="1"/>
          <p:nvPr/>
        </p:nvSpPr>
        <p:spPr>
          <a:xfrm>
            <a:off x="609120" y="1447920"/>
            <a:ext cx="8534520" cy="54100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cs typeface="2  Traffic"/>
              </a:rPr>
              <a:t>چون اعتقاد دارند که کتاب درسی در کلاس آنها کارآیی  لازم را ندارد.</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در جزوه نویسی:</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1</a:t>
            </a:r>
            <a:r>
              <a:rPr b="0" lang="fa-IR" sz="2800" spc="-1" strike="noStrike">
                <a:solidFill>
                  <a:srgbClr val="000000"/>
                </a:solidFill>
                <a:latin typeface="Gill Sans MT"/>
                <a:ea typeface="2  Traffic"/>
              </a:rPr>
              <a:t>-بخش عمده ای از زمان کلاس به نوشتن جزو توسط فراگیران اختصاص میابد.</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2</a:t>
            </a:r>
            <a:r>
              <a:rPr b="0" lang="fa-IR" sz="2800" spc="-1" strike="noStrike">
                <a:solidFill>
                  <a:srgbClr val="000000"/>
                </a:solidFill>
                <a:latin typeface="Gill Sans MT"/>
                <a:ea typeface="2  Traffic"/>
              </a:rPr>
              <a:t>-جزوه نویسی باعث کاهش دقت علمی ،ضعف توالی و انسجام  و عدم جذابیت و تنوع را به همراه دارد. </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3</a:t>
            </a:r>
            <a:r>
              <a:rPr b="0" lang="fa-IR" sz="2800" spc="-1" strike="noStrike">
                <a:solidFill>
                  <a:srgbClr val="000000"/>
                </a:solidFill>
                <a:latin typeface="Gill Sans MT"/>
                <a:ea typeface="2  Traffic"/>
              </a:rPr>
              <a:t>-در جزوه نویسی از نظر متخصصان برنامه ریزی و روانشناسان پرورشی و.... مشورت گرفته نمی شود و براساس ویژگیهای رشد کودک و اصول برنامه ریزی درسی طراحی نمی شو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838080" y="228600"/>
            <a:ext cx="8096400" cy="6019920"/>
          </a:xfrm>
          <a:prstGeom prst="rect">
            <a:avLst/>
          </a:prstGeom>
          <a:noFill/>
          <a:ln w="0">
            <a:noFill/>
          </a:ln>
        </p:spPr>
        <p:txBody>
          <a:bodyPr anchor="t">
            <a:normAutofit fontScale="96000"/>
          </a:bodyPr>
          <a:p>
            <a:pPr marL="350280" indent="-271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Gill Sans MT"/>
                <a:cs typeface="2  Traffic"/>
              </a:rPr>
              <a:t>چرا برخی از معلمان با وجود تلاش گسترده و چند جانبه در زمینه تولید یک کتاب درسی نسبت به کارآیی آن تردید دارند؟</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1</a:t>
            </a:r>
            <a:r>
              <a:rPr b="0" lang="fa-IR" sz="2800" spc="-1" strike="noStrike">
                <a:solidFill>
                  <a:srgbClr val="000000"/>
                </a:solidFill>
                <a:latin typeface="Gill Sans MT"/>
                <a:ea typeface="2  Traffic"/>
              </a:rPr>
              <a:t>-حاکمیت انحصاری متخصصان رشته های علمی و بی توجهی به یافته های روانشناسان تربیتی،نظریه ها و اصول برنامه ریزی درسی مثلا در کتاب درسی ریاضی به همان اندازه که نیاز به حضور متخصص رشته ریاضیات است باید از وجود متخصصان روانشناسی تربیتی ،برنامه ریزی درسی و.... استفاده برد</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2</a:t>
            </a:r>
            <a:r>
              <a:rPr b="0" lang="fa-IR" sz="2800" spc="-1" strike="noStrike">
                <a:solidFill>
                  <a:srgbClr val="000000"/>
                </a:solidFill>
                <a:latin typeface="Gill Sans MT"/>
                <a:ea typeface="2  Traffic"/>
              </a:rPr>
              <a:t>- کارآیی کتاب درسی متاثر از آگاهی ،شناخت  ومهارتهای معلمان در کاربرد کتاب درسی است. بخشی از این آگاهی مربوط به محتوای علمی کتاب درسی است و بخشی دیگر با صلاحیت های بکارگیری کتاب درسی در فرایند یاددهی – یادگیری ارتباط دار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572314"/>
                </a:solidFill>
                <a:latin typeface="Gill Sans MT"/>
                <a:cs typeface="2  Titr"/>
              </a:rPr>
              <a:t>برخی از آگاهی ها که انتظار می رود معلم از کتاب درسی داشته باشد عبارتند از:</a:t>
            </a:r>
            <a:endParaRPr b="0" lang="en-US" sz="3900" spc="-1" strike="noStrike">
              <a:solidFill>
                <a:srgbClr val="572314"/>
              </a:solidFill>
              <a:latin typeface="Gill Sans MT"/>
            </a:endParaRPr>
          </a:p>
        </p:txBody>
      </p:sp>
      <p:sp>
        <p:nvSpPr>
          <p:cNvPr id="579" name=""/>
          <p:cNvSpPr txBox="1"/>
          <p:nvPr/>
        </p:nvSpPr>
        <p:spPr>
          <a:xfrm>
            <a:off x="761760" y="1447560"/>
            <a:ext cx="8172360" cy="5181480"/>
          </a:xfrm>
          <a:prstGeom prst="rect">
            <a:avLst/>
          </a:prstGeom>
          <a:noFill/>
          <a:ln w="0">
            <a:noFill/>
          </a:ln>
        </p:spPr>
        <p:txBody>
          <a:bodyPr anchor="t">
            <a:normAutofit fontScale="98000"/>
          </a:bodyPr>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1</a:t>
            </a:r>
            <a:r>
              <a:rPr b="0" lang="fa-IR" sz="2800" spc="-1" strike="noStrike">
                <a:solidFill>
                  <a:srgbClr val="000000"/>
                </a:solidFill>
                <a:latin typeface="Gill Sans MT"/>
                <a:ea typeface="2  Traffic"/>
              </a:rPr>
              <a:t>- محتوای علمی</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2</a:t>
            </a:r>
            <a:r>
              <a:rPr b="0" lang="fa-IR" sz="2800" spc="-1" strike="noStrike">
                <a:solidFill>
                  <a:srgbClr val="000000"/>
                </a:solidFill>
                <a:latin typeface="Gill Sans MT"/>
                <a:ea typeface="2  Traffic"/>
              </a:rPr>
              <a:t>-عناصر کتاب درسی چون اهداف،متن دروس،تمرین ها و فعالیت های مشخص باشد</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3</a:t>
            </a:r>
            <a:r>
              <a:rPr b="0" lang="fa-IR" sz="2800" spc="-1" strike="noStrike">
                <a:solidFill>
                  <a:srgbClr val="000000"/>
                </a:solidFill>
                <a:latin typeface="Gill Sans MT"/>
                <a:ea typeface="2  Traffic"/>
              </a:rPr>
              <a:t>-روش سازماندهی عناصر در کتاب درسی توالی و انسجام داشته باشد</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4</a:t>
            </a:r>
            <a:r>
              <a:rPr b="0" lang="fa-IR" sz="2800" spc="-1" strike="noStrike">
                <a:solidFill>
                  <a:srgbClr val="000000"/>
                </a:solidFill>
                <a:latin typeface="Gill Sans MT"/>
                <a:ea typeface="2  Traffic"/>
              </a:rPr>
              <a:t>-عناصر کتاب باهم در ارتباط باشند متن با اهداف </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5</a:t>
            </a:r>
            <a:r>
              <a:rPr b="0" lang="fa-IR" sz="2800" spc="-1" strike="noStrike">
                <a:solidFill>
                  <a:srgbClr val="000000"/>
                </a:solidFill>
                <a:latin typeface="Gill Sans MT"/>
                <a:ea typeface="2  Traffic"/>
              </a:rPr>
              <a:t>-روش و یا روش های تدریسی دروس مشخص باشد</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6</a:t>
            </a:r>
            <a:r>
              <a:rPr b="0" lang="fa-IR" sz="2800" spc="-1" strike="noStrike">
                <a:solidFill>
                  <a:srgbClr val="000000"/>
                </a:solidFill>
                <a:latin typeface="Gill Sans MT"/>
                <a:ea typeface="2  Traffic"/>
              </a:rPr>
              <a:t>-روش یا روش های ارزشیابی از آموخته های دانش آموزان مشخص باشد</a:t>
            </a:r>
            <a:endParaRPr b="0" lang="en-US" sz="2800" spc="-1" strike="noStrike">
              <a:solidFill>
                <a:srgbClr val="000000"/>
              </a:solidFill>
              <a:latin typeface="Gill Sans MT"/>
            </a:endParaRPr>
          </a:p>
          <a:p>
            <a:pPr marL="357480" indent="-2768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Gill Sans MT"/>
                <a:ea typeface="2  Traffic"/>
              </a:rPr>
              <a:t>7</a:t>
            </a:r>
            <a:r>
              <a:rPr b="0" lang="fa-IR" sz="2800" spc="-1" strike="noStrike">
                <a:solidFill>
                  <a:srgbClr val="000000"/>
                </a:solidFill>
                <a:latin typeface="Gill Sans MT"/>
                <a:ea typeface="2  Traffic"/>
              </a:rPr>
              <a:t>-نتایج غیر قابل انتظاری که احتمالا از تدریس کتاب بوجود خواهد آمد</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9:18:52Z</dcterms:created>
  <dc:creator>Shahram</dc:creator>
  <dc:description/>
  <dc:language>en-US</dc:language>
  <cp:lastModifiedBy>R.A.B</cp:lastModifiedBy>
  <dcterms:modified xsi:type="dcterms:W3CDTF">2020-02-29T16:50:43Z</dcterms:modified>
  <cp:revision>153</cp:revision>
  <dc:subject/>
  <dc:title>Slide 1</dc:title>
</cp:coreProperties>
</file>